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C6A7-E647-4879-8D6B-09B5F9E1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131B-183A-4A8B-929D-0E484DEF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11F-261F-4FAE-8ADB-48ED7058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325F-AA17-447F-9D41-26B3F00C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6C21-59FB-469E-A352-7C3BC33C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075E-F101-45C6-83DD-CED2EB41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4EC8-7F62-4147-8FBC-E0DA16E6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925D-7CED-431C-897D-7635D3E8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F93F-CB19-46E9-9DEA-7D27DEB1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6681-132B-4F11-ADE7-AC630ED0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CC97-5FAC-4416-835B-C4DCCF01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1E0E-2933-4966-9C48-7A94B839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CEFB-0E7E-4F3D-86E3-CEF7D4E0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C389-95B0-4A6F-8B13-84C117A8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59D8-2DA1-4547-AA2D-27B4172C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B7C5-715C-4F49-97B4-238ABB18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0C34-94BB-4679-8B0A-059206D1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2166-E9C1-435D-BE02-766E63DE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CB04-F911-4279-B7B7-435E15AF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D69D-8BEE-432F-A662-22A640B9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8224-F2F5-47AB-9C67-C509117D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6CE-085F-4F18-AD91-C398DBC5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E83-2415-411E-B2E2-C886F18A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755D-49EF-4937-B50A-1CE82DBB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2000"/>
                      <a:gd name="textAreaBottom" fmla="*/ 162360 h 162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custGeom>
                    <a:avLst/>
                    <a:gdLst>
                      <a:gd name="textAreaLeft" fmla="*/ 0 w 340560"/>
                      <a:gd name="textAreaRight" fmla="*/ 340920 w 34056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custGeom>
                    <a:avLst/>
                    <a:gdLst>
                      <a:gd name="textAreaLeft" fmla="*/ 360 w 882720"/>
                      <a:gd name="textAreaRight" fmla="*/ 883440 w 88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custGeom>
                    <a:avLst/>
                    <a:gdLst>
                      <a:gd name="textAreaLeft" fmla="*/ 360 w 473760"/>
                      <a:gd name="textAreaRight" fmla="*/ 474480 w 473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custGeom>
                    <a:avLst/>
                    <a:gdLst>
                      <a:gd name="textAreaLeft" fmla="*/ 360 w 930240"/>
                      <a:gd name="textAreaRight" fmla="*/ 930960 w 93024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custGeom>
                    <a:avLst/>
                    <a:gdLst>
                      <a:gd name="textAreaLeft" fmla="*/ 360 w 498960"/>
                      <a:gd name="textAreaRight" fmla="*/ 499680 w 49896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240"/>
                      <a:gd name="textAreaBottom" fmla="*/ 156600 h 156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2280"/>
                      <a:gd name="textAreaBottom" fmla="*/ 242640 h 242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120"/>
                      <a:gd name="textAreaBottom" fmla="*/ 159480 h 1591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8760"/>
                      <a:gd name="textAreaBottom" fmla="*/ 249120 h 248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custGeom>
                    <a:avLst/>
                    <a:gdLst>
                      <a:gd name="textAreaLeft" fmla="*/ -360 w 635400"/>
                      <a:gd name="textAreaRight" fmla="*/ 635400 w 635400"/>
                      <a:gd name="textAreaTop" fmla="*/ 0 h 109080"/>
                      <a:gd name="textAreaBottom" fmla="*/ 109440 h 109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custGeom>
                    <a:avLst/>
                    <a:gdLst>
                      <a:gd name="textAreaLeft" fmla="*/ 0 w 340920"/>
                      <a:gd name="textAreaRight" fmla="*/ 340920 w 34092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custGeom>
                    <a:avLst/>
                    <a:gdLst>
                      <a:gd name="textAreaLeft" fmla="*/ -360 w 543240"/>
                      <a:gd name="textAreaRight" fmla="*/ 543240 w 5432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custGeom>
                    <a:avLst/>
                    <a:gdLst>
                      <a:gd name="textAreaLeft" fmla="*/ -360 w 293400"/>
                      <a:gd name="textAreaRight" fmla="*/ 293400 w 29340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custGeom>
                    <a:avLst/>
                    <a:gdLst>
                      <a:gd name="textAreaLeft" fmla="*/ 0 w 337680"/>
                      <a:gd name="textAreaRight" fmla="*/ 337680 w 3376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custGeom>
                    <a:avLst/>
                    <a:gdLst>
                      <a:gd name="textAreaLeft" fmla="*/ 0 w 338760"/>
                      <a:gd name="textAreaRight" fmla="*/ 339120 w 33876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custGeom>
                    <a:avLst/>
                    <a:gdLst>
                      <a:gd name="textAreaLeft" fmla="*/ 0 w 291240"/>
                      <a:gd name="textAreaRight" fmla="*/ 291600 w 29124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custGeom>
                    <a:avLst/>
                    <a:gdLst>
                      <a:gd name="textAreaLeft" fmla="*/ 360 w 886320"/>
                      <a:gd name="textAreaRight" fmla="*/ 887040 w 8863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custGeom>
                    <a:avLst/>
                    <a:gdLst>
                      <a:gd name="textAreaLeft" fmla="*/ -360 w 475560"/>
                      <a:gd name="textAreaRight" fmla="*/ 475560 w 4755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custGeom>
                    <a:avLst/>
                    <a:gdLst>
                      <a:gd name="textAreaLeft" fmla="*/ 360 w 820080"/>
                      <a:gd name="textAreaRight" fmla="*/ 820800 w 8200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>
                      <a:gd name="textAreaLeft" fmla="*/ 360 w 437760"/>
                      <a:gd name="textAreaRight" fmla="*/ 438480 w 437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custGeom>
                    <a:avLst/>
                    <a:gdLst>
                      <a:gd name="textAreaLeft" fmla="*/ 0 w 753840"/>
                      <a:gd name="textAreaRight" fmla="*/ 754200 w 75384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custGeom>
                    <a:avLst/>
                    <a:gdLst>
                      <a:gd name="textAreaLeft" fmla="*/ 0 w 405720"/>
                      <a:gd name="textAreaRight" fmla="*/ 406080 w 40572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custGeom>
                    <a:avLst/>
                    <a:gdLst>
                      <a:gd name="textAreaLeft" fmla="*/ 0 w 394920"/>
                      <a:gd name="textAreaRight" fmla="*/ 395280 w 39492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80800"/>
                  <a:gd name="textAreaBottom" fmla="*/ 1180800 h 118080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7160"/>
                  <a:gd name="textAreaBottom" fmla="*/ 1217520 h 121716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0800"/>
                  <a:gd name="textAreaBottom" fmla="*/ 1181160 h 118080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804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80440"/>
                  <a:gd name="textAreaBottom" fmla="*/ 1180800 h 118044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2960"/>
                  <a:gd name="textAreaBottom" fmla="*/ 733320 h 7329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1975-B5AF-4CE4-8D88-5A2DA2FE6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304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880"/>
                    <a:ext cx="71316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520" cy="2742840"/>
                    <a:chOff x="5761440" y="232236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600" y="3020040"/>
                      <a:ext cx="2127600" cy="384480"/>
                    </a:xfrm>
                    <a:custGeom>
                      <a:avLst/>
                      <a:gdLst>
                        <a:gd name="textAreaLeft" fmla="*/ 0 w 2127600"/>
                        <a:gd name="textAreaRight" fmla="*/ 2127960 w 21276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6120"/>
                      <a:ext cx="1139040" cy="604080"/>
                    </a:xfrm>
                    <a:custGeom>
                      <a:avLst/>
                      <a:gdLst>
                        <a:gd name="textAreaLeft" fmla="*/ 0 w 1139040"/>
                        <a:gd name="textAreaRight" fmla="*/ 113940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840"/>
                      <a:ext cx="2236680" cy="4258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5880"/>
                        <a:gd name="textAreaBottom" fmla="*/ 426240 h 4258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1640" y="3720960"/>
                      <a:ext cx="1202040" cy="67284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560"/>
                      <a:ext cx="1906560" cy="384480"/>
                    </a:xfrm>
                    <a:custGeom>
                      <a:avLst/>
                      <a:gdLst>
                        <a:gd name="textAreaLeft" fmla="*/ 0 w 1906560"/>
                        <a:gd name="textAreaRight" fmla="*/ 1906920 w 19065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7080" y="2212920"/>
                      <a:ext cx="1023120" cy="60264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2400"/>
                      <a:ext cx="1519200" cy="26604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580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5920"/>
                    <a:ext cx="3040200" cy="2530800"/>
                    <a:chOff x="2085120" y="2365920"/>
                    <a:chExt cx="3040200" cy="253080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6400" y="2970000"/>
                      <a:ext cx="2238480" cy="428040"/>
                    </a:xfrm>
                    <a:custGeom>
                      <a:avLst/>
                      <a:gdLst>
                        <a:gd name="textAreaLeft" fmla="*/ 360 w 2238480"/>
                        <a:gd name="textAreaRight" fmla="*/ 2239200 w 2238480"/>
                        <a:gd name="textAreaTop" fmla="*/ 0 h 428040"/>
                        <a:gd name="textAreaBottom" fmla="*/ 428400 h 428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200"/>
                      <a:ext cx="1202760" cy="67212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840"/>
                    <a:ext cx="3096360" cy="1992240"/>
                    <a:chOff x="2040840" y="2283840"/>
                    <a:chExt cx="309636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4360" y="2739600"/>
                      <a:ext cx="2140200" cy="375480"/>
                    </a:xfrm>
                    <a:custGeom>
                      <a:avLst/>
                      <a:gdLst>
                        <a:gd name="textAreaLeft" fmla="*/ -360 w 2140200"/>
                        <a:gd name="textAreaRight" fmla="*/ 2140200 w 2140200"/>
                        <a:gd name="textAreaTop" fmla="*/ 0 h 375480"/>
                        <a:gd name="textAreaBottom" fmla="*/ 375840 h 375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640"/>
                      <a:ext cx="1150200" cy="586440"/>
                    </a:xfrm>
                    <a:custGeom>
                      <a:avLst/>
                      <a:gdLst>
                        <a:gd name="textAreaLeft" fmla="*/ -360 w 1150200"/>
                        <a:gd name="textAreaRight" fmla="*/ 1150200 w 1150200"/>
                        <a:gd name="textAreaTop" fmla="*/ 0 h 586440"/>
                        <a:gd name="textAreaBottom" fmla="*/ 586800 h 586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520" cy="1608120"/>
                    <a:chOff x="2010960" y="2188440"/>
                    <a:chExt cx="313452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960" y="2497680"/>
                      <a:ext cx="2068200" cy="412920"/>
                    </a:xfrm>
                    <a:custGeom>
                      <a:avLst/>
                      <a:gdLst>
                        <a:gd name="textAreaLeft" fmla="*/ -360 w 2068200"/>
                        <a:gd name="textAreaRight" fmla="*/ 2068200 w 206820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89080"/>
                      <a:ext cx="1111680" cy="651240"/>
                    </a:xfrm>
                    <a:custGeom>
                      <a:avLst/>
                      <a:gdLst>
                        <a:gd name="textAreaLeft" fmla="*/ 360 w 1111680"/>
                        <a:gd name="textAreaRight" fmla="*/ 1112400 w 1111680"/>
                        <a:gd name="textAreaTop" fmla="*/ 0 h 651240"/>
                        <a:gd name="textAreaBottom" fmla="*/ 651600 h 651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480" y="2097720"/>
                    <a:ext cx="2940840" cy="1002240"/>
                    <a:chOff x="2166480" y="209772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120" y="2223720"/>
                      <a:ext cx="1906560" cy="386280"/>
                    </a:xfrm>
                    <a:custGeom>
                      <a:avLst/>
                      <a:gdLst>
                        <a:gd name="textAreaLeft" fmla="*/ 360 w 1906560"/>
                        <a:gd name="textAreaRight" fmla="*/ 1907280 w 1906560"/>
                        <a:gd name="textAreaTop" fmla="*/ 0 h 386280"/>
                        <a:gd name="textAreaBottom" fmla="*/ 386640 h 386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120" y="2430360"/>
                      <a:ext cx="1022760" cy="603360"/>
                    </a:xfrm>
                    <a:custGeom>
                      <a:avLst/>
                      <a:gdLst>
                        <a:gd name="textAreaLeft" fmla="*/ -360 w 1022760"/>
                        <a:gd name="textAreaRight" fmla="*/ 1022760 w 102276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960" cy="446040"/>
                    <a:chOff x="2403720" y="2033640"/>
                    <a:chExt cx="265896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8200" y="2071440"/>
                      <a:ext cx="1731240" cy="267840"/>
                    </a:xfrm>
                    <a:custGeom>
                      <a:avLst/>
                      <a:gdLst>
                        <a:gd name="textAreaLeft" fmla="*/ -360 w 1731240"/>
                        <a:gd name="textAreaRight" fmla="*/ 1731240 w 1731240"/>
                        <a:gd name="textAreaTop" fmla="*/ 0 h 267840"/>
                        <a:gd name="textAreaBottom" fmla="*/ 268200 h 267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30240" cy="423000"/>
                    </a:xfrm>
                    <a:custGeom>
                      <a:avLst/>
                      <a:gdLst>
                        <a:gd name="textAreaLeft" fmla="*/ 360 w 930240"/>
                        <a:gd name="textAreaRight" fmla="*/ 930960 w 93024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2440"/>
                    <a:ext cx="2364840" cy="787320"/>
                    <a:chOff x="2760480" y="1522440"/>
                    <a:chExt cx="236484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4880" cy="1083960"/>
                    <a:chOff x="288720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680" y="1787400"/>
                      <a:ext cx="1520280" cy="26568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580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31240"/>
                    <a:ext cx="2169720" cy="1507680"/>
                    <a:chOff x="3161520" y="831240"/>
                    <a:chExt cx="2169720" cy="150768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6040" y="1672920"/>
                      <a:ext cx="1519200" cy="26568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3120"/>
                      <a:ext cx="816120" cy="4150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1240" cy="1886400"/>
                    <a:chOff x="4027320" y="335160"/>
                    <a:chExt cx="146124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7200" cy="265680"/>
                    </a:xfrm>
                    <a:custGeom>
                      <a:avLst/>
                      <a:gdLst>
                        <a:gd name="textAreaLeft" fmla="*/ 360 w 1357200"/>
                        <a:gd name="textAreaRight" fmla="*/ 1357920 w 135720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760"/>
                      <a:ext cx="727560" cy="416160"/>
                    </a:xfrm>
                    <a:custGeom>
                      <a:avLst/>
                      <a:gdLst>
                        <a:gd name="textAreaLeft" fmla="*/ 0 w 727560"/>
                        <a:gd name="textAreaRight" fmla="*/ 727560 w 7275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2120" cy="1946160"/>
                    <a:chOff x="4448160" y="245520"/>
                    <a:chExt cx="1122120" cy="194616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4720" y="1400760"/>
                      <a:ext cx="1308960" cy="265320"/>
                    </a:xfrm>
                    <a:custGeom>
                      <a:avLst/>
                      <a:gdLst>
                        <a:gd name="textAreaLeft" fmla="*/ 360 w 1308960"/>
                        <a:gd name="textAreaRight" fmla="*/ 1309680 w 130896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16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1680"/>
                    <a:chOff x="5661720" y="952560"/>
                    <a:chExt cx="2317320" cy="111168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440"/>
                      <a:ext cx="816120" cy="41904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9040"/>
                        <a:gd name="textAreaBottom" fmla="*/ 419400 h 419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196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6640" cy="1901160"/>
                    <a:chOff x="5355720" y="269640"/>
                    <a:chExt cx="119664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440" y="1418400"/>
                      <a:ext cx="1310400" cy="226080"/>
                    </a:xfrm>
                    <a:custGeom>
                      <a:avLst/>
                      <a:gdLst>
                        <a:gd name="textAreaLeft" fmla="*/ 0 w 1310400"/>
                        <a:gd name="textAreaRight" fmla="*/ 1310760 w 131040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080" y="484920"/>
                      <a:ext cx="703080" cy="357480"/>
                    </a:xfrm>
                    <a:custGeom>
                      <a:avLst/>
                      <a:gdLst>
                        <a:gd name="textAreaLeft" fmla="*/ 0 w 703080"/>
                        <a:gd name="textAreaRight" fmla="*/ 703080 w 703080"/>
                        <a:gd name="textAreaTop" fmla="*/ 0 h 357480"/>
                        <a:gd name="textAreaBottom" fmla="*/ 357840 h 357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080" y="388080"/>
                    <a:ext cx="1892520" cy="1797480"/>
                    <a:chOff x="5347080" y="388080"/>
                    <a:chExt cx="1892520" cy="179748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000" y="1388520"/>
                      <a:ext cx="1425960" cy="333000"/>
                    </a:xfrm>
                    <a:custGeom>
                      <a:avLst/>
                      <a:gdLst>
                        <a:gd name="textAreaLeft" fmla="*/ 0 w 1425960"/>
                        <a:gd name="textAreaRight" fmla="*/ 1426320 w 1425960"/>
                        <a:gd name="textAreaTop" fmla="*/ 0 h 333000"/>
                        <a:gd name="textAreaBottom" fmla="*/ 333360 h 333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1880" y="583920"/>
                      <a:ext cx="766440" cy="524160"/>
                    </a:xfrm>
                    <a:custGeom>
                      <a:avLst/>
                      <a:gdLst>
                        <a:gd name="textAreaLeft" fmla="*/ 0 w 766440"/>
                        <a:gd name="textAreaRight" fmla="*/ 766800 w 766440"/>
                        <a:gd name="textAreaTop" fmla="*/ 0 h 524160"/>
                        <a:gd name="textAreaBottom" fmla="*/ 524520 h 524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680"/>
                    <a:chOff x="5458320" y="292680"/>
                    <a:chExt cx="426960" cy="179568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560"/>
                        <a:gd name="textAreaBottom" fmla="*/ 106920 h 106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1400" y="533160"/>
                      <a:ext cx="631080" cy="16740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400"/>
                        <a:gd name="textAreaBottom" fmla="*/ 167760 h 167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30440"/>
                    <a:ext cx="2195640" cy="3003120"/>
                    <a:chOff x="3063240" y="2530440"/>
                    <a:chExt cx="2195640" cy="300312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8560" y="3314880"/>
                      <a:ext cx="2127960" cy="385560"/>
                    </a:xfrm>
                    <a:custGeom>
                      <a:avLst/>
                      <a:gdLst>
                        <a:gd name="textAreaLeft" fmla="*/ -360 w 2127960"/>
                        <a:gd name="textAreaRight" fmla="*/ 2127960 w 21279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2160"/>
                      <a:ext cx="1139040" cy="60408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160" y="2650320"/>
                    <a:ext cx="1483200" cy="2999880"/>
                    <a:chOff x="3791160" y="2650320"/>
                    <a:chExt cx="148320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0160"/>
                      <a:ext cx="1967400" cy="38556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2200" y="4746240"/>
                      <a:ext cx="1055880" cy="6019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1920"/>
                        <a:gd name="textAreaBottom" fmla="*/ 602280 h 601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8280" y="2703240"/>
                    <a:ext cx="875160" cy="2926800"/>
                    <a:chOff x="4508280" y="2703240"/>
                    <a:chExt cx="87516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5640" y="3488760"/>
                      <a:ext cx="1887480" cy="347760"/>
                    </a:xfrm>
                    <a:custGeom>
                      <a:avLst/>
                      <a:gdLst>
                        <a:gd name="textAreaLeft" fmla="*/ -360 w 1887480"/>
                        <a:gd name="textAreaRight" fmla="*/ 1887480 w 1887480"/>
                        <a:gd name="textAreaTop" fmla="*/ 0 h 347760"/>
                        <a:gd name="textAreaBottom" fmla="*/ 348120 h 347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880" y="4808160"/>
                      <a:ext cx="1011600" cy="545400"/>
                    </a:xfrm>
                    <a:custGeom>
                      <a:avLst/>
                      <a:gdLst>
                        <a:gd name="textAreaLeft" fmla="*/ 360 w 1011600"/>
                        <a:gd name="textAreaRight" fmla="*/ 1012320 w 1011600"/>
                        <a:gd name="textAreaTop" fmla="*/ 0 h 545400"/>
                        <a:gd name="textAreaBottom" fmla="*/ 545760 h 545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200" y="2482920"/>
                    <a:ext cx="2281320" cy="2953080"/>
                    <a:chOff x="5677200" y="2482920"/>
                    <a:chExt cx="2281320" cy="295308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440"/>
                      <a:ext cx="2127960" cy="385560"/>
                    </a:xfrm>
                    <a:custGeom>
                      <a:avLst/>
                      <a:gdLst>
                        <a:gd name="textAreaLeft" fmla="*/ 0 w 2127960"/>
                        <a:gd name="textAreaRight" fmla="*/ 2128320 w 21279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2200" y="4499280"/>
                      <a:ext cx="1139400" cy="60264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760" y="2593080"/>
                    <a:ext cx="1757520" cy="3032640"/>
                    <a:chOff x="5648760" y="2593080"/>
                    <a:chExt cx="175752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6080" y="3395160"/>
                      <a:ext cx="2033640" cy="369360"/>
                    </a:xfrm>
                    <a:custGeom>
                      <a:avLst/>
                      <a:gdLst>
                        <a:gd name="textAreaLeft" fmla="*/ 0 w 2033640"/>
                        <a:gd name="textAreaRight" fmla="*/ 2034000 w 2033640"/>
                        <a:gd name="textAreaTop" fmla="*/ 0 h 369360"/>
                        <a:gd name="textAreaBottom" fmla="*/ 369720 h 369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19240"/>
                      <a:ext cx="1090800" cy="578160"/>
                    </a:xfrm>
                    <a:custGeom>
                      <a:avLst/>
                      <a:gdLst>
                        <a:gd name="textAreaLeft" fmla="*/ 0 w 1090800"/>
                        <a:gd name="textAreaRight" fmla="*/ 1091160 w 109080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040"/>
                      <a:ext cx="1972080" cy="302760"/>
                    </a:xfrm>
                    <a:custGeom>
                      <a:avLst/>
                      <a:gdLst>
                        <a:gd name="textAreaLeft" fmla="*/ 0 w 1972080"/>
                        <a:gd name="textAreaRight" fmla="*/ 1972440 w 197208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680" y="2840760"/>
                    <a:ext cx="696960" cy="2777400"/>
                    <a:chOff x="552168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7080" y="3607560"/>
                      <a:ext cx="1812240" cy="303120"/>
                    </a:xfrm>
                    <a:custGeom>
                      <a:avLst/>
                      <a:gdLst>
                        <a:gd name="textAreaLeft" fmla="*/ 0 w 1812240"/>
                        <a:gd name="textAreaRight" fmla="*/ 1812600 w 18122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920" y="4864320"/>
                      <a:ext cx="973080" cy="475560"/>
                    </a:xfrm>
                    <a:custGeom>
                      <a:avLst/>
                      <a:gdLst>
                        <a:gd name="textAreaLeft" fmla="*/ 0 w 973080"/>
                        <a:gd name="textAreaRight" fmla="*/ 973440 w 97308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2720" y="857880"/>
                    <a:ext cx="3164400" cy="2523960"/>
                  </a:xfrm>
                  <a:custGeom>
                    <a:avLst/>
                    <a:gdLst>
                      <a:gd name="textAreaLeft" fmla="*/ 0 w 3164400"/>
                      <a:gd name="textAreaRight" fmla="*/ 3164760 w 316440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70520"/>
                    <a:ext cx="2485080" cy="2933280"/>
                  </a:xfrm>
                  <a:custGeom>
                    <a:avLst/>
                    <a:gdLst>
                      <a:gd name="textAreaLeft" fmla="*/ -360 w 2485080"/>
                      <a:gd name="textAreaRight" fmla="*/ 2485080 w 248508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20120" y="1752840"/>
                    <a:ext cx="1757520" cy="2934360"/>
                  </a:xfrm>
                  <a:custGeom>
                    <a:avLst/>
                    <a:gdLst>
                      <a:gd name="textAreaLeft" fmla="*/ 0 w 1757520"/>
                      <a:gd name="textAreaRight" fmla="*/ 1757880 w 175752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000" cy="293436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1320" cy="2840760"/>
                  </a:xfrm>
                  <a:custGeom>
                    <a:avLst/>
                    <a:gdLst>
                      <a:gd name="textAreaLeft" fmla="*/ -360 w 2281320"/>
                      <a:gd name="textAreaRight" fmla="*/ 2281320 w 228132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2520" y="1875960"/>
                    <a:ext cx="942840" cy="2840760"/>
                  </a:xfrm>
                  <a:custGeom>
                    <a:avLst/>
                    <a:gdLst>
                      <a:gd name="textAreaLeft" fmla="*/ 0 w 942840"/>
                      <a:gd name="textAreaRight" fmla="*/ 943200 w 94284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48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3280" y="2579760"/>
                <a:ext cx="2613960" cy="2841120"/>
              </a:xfrm>
              <a:custGeom>
                <a:avLst/>
                <a:gdLst>
                  <a:gd name="textAreaLeft" fmla="*/ -360 w 2613960"/>
                  <a:gd name="textAreaRight" fmla="*/ 2613960 w 261396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4640" y="2122200"/>
                <a:ext cx="1536120" cy="2934000"/>
              </a:xfrm>
              <a:custGeom>
                <a:avLst/>
                <a:gdLst>
                  <a:gd name="textAreaLeft" fmla="*/ -360 w 1536120"/>
                  <a:gd name="textAreaRight" fmla="*/ 1536120 w 15361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7880"/>
                <a:ext cx="1241640" cy="197280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2800"/>
                  <a:gd name="textAreaBottom" fmla="*/ 1973160 h 1972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F68F-4546-46B3-899A-A04EFA11E7FD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0560" y="1827360"/>
            <a:ext cx="87138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ffcc"/>
                </a:solidFill>
                <a:latin typeface="Arial Black"/>
              </a:rPr>
              <a:t>“ </a:t>
            </a:r>
            <a:r>
              <a:rPr b="1" lang="en-US" sz="4800" spc="-1" strike="noStrike">
                <a:solidFill>
                  <a:srgbClr val="00ffcc"/>
                </a:solidFill>
                <a:latin typeface="Arial Black"/>
              </a:rPr>
              <a:t>ЖАРИШНА</a:t>
            </a:r>
            <a:r>
              <a:rPr b="1" lang="sr-Latn-CS" sz="4800" spc="-1" strike="noStrike">
                <a:solidFill>
                  <a:srgbClr val="00ffcc"/>
                </a:solidFill>
                <a:latin typeface="Arial Black"/>
              </a:rPr>
              <a:t>   </a:t>
            </a:r>
            <a:r>
              <a:rPr b="1" lang="en-US" sz="4800" spc="-1" strike="noStrike">
                <a:solidFill>
                  <a:srgbClr val="00ffcc"/>
                </a:solidFill>
                <a:latin typeface="Arial Black"/>
              </a:rPr>
              <a:t>ИНФЕКЦИЈА</a:t>
            </a:r>
            <a:r>
              <a:rPr b="1" lang="sr-Latn-CS" sz="4800" spc="-1" strike="noStrike">
                <a:solidFill>
                  <a:srgbClr val="00ffcc"/>
                </a:solidFill>
                <a:latin typeface="Arial Black"/>
              </a:rPr>
              <a:t> “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651280" y="6021360"/>
            <a:ext cx="349236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	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 Black"/>
              </a:rPr>
              <a:t>ОРАЛНА</a:t>
            </a:r>
            <a:r>
              <a:rPr b="0" lang="sr-Latn-CS" sz="2000" spc="-1" strike="noStrike">
                <a:solidFill>
                  <a:srgbClr val="00ffcc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Arial Black"/>
              </a:rPr>
              <a:t>ЖАРИШТА</a:t>
            </a:r>
            <a:br>
              <a:rPr sz="2000"/>
            </a:br>
            <a:r>
              <a:rPr b="0" lang="sr-Latn-CS" sz="20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sr-Latn-CS" sz="2000" spc="-1" strike="noStrike">
                <a:solidFill>
                  <a:srgbClr val="00ffcc"/>
                </a:solidFill>
                <a:latin typeface="Arial Black"/>
              </a:rPr>
              <a:t>	</a:t>
            </a:r>
            <a:r>
              <a:rPr b="0" lang="sr-Latn-CS" sz="2000" spc="-1" strike="noStrike">
                <a:solidFill>
                  <a:srgbClr val="00ffcc"/>
                </a:solidFill>
                <a:latin typeface="Arial Black"/>
              </a:rPr>
              <a:t>	</a:t>
            </a:r>
            <a:r>
              <a:rPr b="0" lang="sr-Latn-CS" sz="2000" spc="-1" strike="noStrike">
                <a:solidFill>
                  <a:srgbClr val="00ffcc"/>
                </a:solidFill>
                <a:latin typeface="Arial Black"/>
              </a:rPr>
              <a:t>   </a:t>
            </a:r>
            <a:r>
              <a:rPr b="0" i="1" lang="en-US" sz="2000" spc="-1" strike="noStrike">
                <a:solidFill>
                  <a:srgbClr val="00ffcc"/>
                </a:solidFill>
                <a:latin typeface="Arial Black"/>
              </a:rPr>
              <a:t>ДЕНТОГЕН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337440" y="5949720"/>
            <a:ext cx="28065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250920" y="1052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ИМПАКТИРАН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ЗУБ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1384200" y="2448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1527120" y="259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1" name="Picture 7" descr="Batch Pict0010"/>
          <p:cNvPicPr/>
          <p:nvPr/>
        </p:nvPicPr>
        <p:blipFill>
          <a:blip r:embed="rId1"/>
          <a:stretch/>
        </p:blipFill>
        <p:spPr>
          <a:xfrm>
            <a:off x="755640" y="1413000"/>
            <a:ext cx="3095640" cy="4680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8" descr="Batch Pict0002"/>
          <p:cNvPicPr/>
          <p:nvPr/>
        </p:nvPicPr>
        <p:blipFill>
          <a:blip r:embed="rId2"/>
          <a:stretch/>
        </p:blipFill>
        <p:spPr>
          <a:xfrm>
            <a:off x="5076720" y="1341360"/>
            <a:ext cx="36720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0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00ffcc"/>
                </a:solidFill>
                <a:latin typeface="Arial Black"/>
              </a:rPr>
              <a:t>ОРАЛНА</a:t>
            </a:r>
            <a:r>
              <a:rPr b="0" lang="sr-Latn-CS" sz="4400" spc="-1" strike="noStrike">
                <a:solidFill>
                  <a:srgbClr val="00ffcc"/>
                </a:solidFill>
                <a:latin typeface="Arial Black"/>
              </a:rPr>
              <a:t>  </a:t>
            </a:r>
            <a:r>
              <a:rPr b="0" lang="en-US" sz="4400" spc="-1" strike="noStrike">
                <a:solidFill>
                  <a:srgbClr val="00ffcc"/>
                </a:solidFill>
                <a:latin typeface="Arial Black"/>
              </a:rPr>
              <a:t>ЖАРИШТА</a:t>
            </a:r>
            <a:br>
              <a:rPr sz="4400"/>
            </a:br>
            <a:r>
              <a:rPr b="0" lang="sr-Latn-CS" sz="44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i="1" lang="en-US" sz="3600" spc="-1" strike="noStrike">
                <a:solidFill>
                  <a:srgbClr val="00ffcc"/>
                </a:solidFill>
                <a:latin typeface="Arial Black"/>
              </a:rPr>
              <a:t>ОСТАЛ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337440" y="5949720"/>
            <a:ext cx="28065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250920" y="306864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e1f08"/>
                </a:solidFill>
                <a:latin typeface="Arial Black"/>
              </a:rPr>
              <a:t>●  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ИНУЗИТИС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e1f08"/>
                </a:solidFill>
                <a:latin typeface="Arial Black"/>
              </a:rPr>
              <a:t>●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ТОНЗИЛИТИС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1384200" y="2448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1527120" y="259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58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 Black"/>
              </a:rPr>
              <a:t>ЕКСТРАОРАЛНА</a:t>
            </a:r>
            <a:r>
              <a:rPr b="0" lang="sr-Latn-CS" sz="44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00ffcc"/>
                </a:solidFill>
                <a:latin typeface="Arial Black"/>
              </a:rPr>
              <a:t>ЖАРИШ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e1f08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УРОГЕНИТАЛНИ</a:t>
            </a: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ТРАК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(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хроничн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запаљењ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простате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јајник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spcBef>
                <a:spcPts val="451"/>
              </a:spcBef>
              <a:buClr>
                <a:srgbClr val="fe1f08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ГАСТРОИНТЕСТИНАЛНИ</a:t>
            </a: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ТРАКТ</a:t>
            </a: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апендицитис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холециститис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spcBef>
                <a:spcPts val="700"/>
              </a:spcBef>
              <a:buClr>
                <a:srgbClr val="fe1f08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РЕСПИРАТОРНИ</a:t>
            </a: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ТРАКТ</a:t>
            </a: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хроничн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бронхит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трахеит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пнеумонит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емпијем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плеуре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spcBef>
                <a:spcPts val="700"/>
              </a:spcBef>
              <a:buClr>
                <a:srgbClr val="fe1f08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ЛОКОМОТОРНИ</a:t>
            </a: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АПАРА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моно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полиартрит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6262560" y="6021360"/>
            <a:ext cx="28814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125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ОРАЛНА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ЖАРИШТА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ffcc"/>
                </a:solidFill>
                <a:latin typeface="Arial Black"/>
              </a:rPr>
              <a:t>НАЈЗНАЧАЈНИЈ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ДЕНТОГЕН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(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периапикалн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жаришт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ТОНЗИЛИТИС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ПАРОДОНТОПАТИЈЕ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–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КОМПЛИКОВАНИ</a:t>
            </a:r>
            <a:r>
              <a:rPr b="0" lang="sr-Latn-C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ОБЛИЦИ</a:t>
            </a:r>
            <a:r>
              <a:rPr b="0" lang="sr-Latn-C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ПАРОДОНТАЛНИХ</a:t>
            </a:r>
            <a:r>
              <a:rPr b="0" lang="sr-Latn-C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ЏЕПОВА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ИНУЗИТИС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cc00"/>
                </a:solidFill>
                <a:latin typeface="Arial Black"/>
              </a:rPr>
              <a:t>                               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23" name="Picture 4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6407280" y="63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ОРАЛНА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ЖАРИШТА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9640" y="2491920"/>
            <a:ext cx="77724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УСЛОВИ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ЗА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СТВАРАЊЕ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ПЕРИАПИКАЛНИХ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ЖАРИШ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ВИРУЛЕНТНИ</a:t>
            </a:r>
            <a:r>
              <a:rPr b="0" lang="sr-Latn-C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МИКРООРГАНИЗМИ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ДУБОКЕ</a:t>
            </a:r>
            <a:r>
              <a:rPr b="0" lang="sr-Latn-C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КАРИЈЕСНЕ</a:t>
            </a:r>
            <a:r>
              <a:rPr b="0" lang="sr-Latn-C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ЛЕЗИЈЕ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ОСЛАБЉЕНИ</a:t>
            </a:r>
            <a:r>
              <a:rPr b="0" lang="sr-Latn-C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ИМУНОЛОШКИ</a:t>
            </a:r>
            <a:r>
              <a:rPr b="0" lang="sr-Latn-C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СИСТЕМ</a:t>
            </a:r>
            <a:r>
              <a:rPr b="0" lang="sr-Latn-C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ДОМАЋИН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                              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27" name="Picture 4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5"/>
          <p:cNvSpPr/>
          <p:nvPr/>
        </p:nvSpPr>
        <p:spPr>
          <a:xfrm>
            <a:off x="6407280" y="63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Ограничени</a:t>
            </a:r>
            <a:r>
              <a:rPr b="0" lang="sr-Latn-C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ериапикални</a:t>
            </a:r>
            <a:r>
              <a:rPr b="0" lang="sr-Latn-C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роцес</a:t>
            </a:r>
            <a:r>
              <a:rPr b="0" lang="sr-Latn-CS" sz="4400" spc="-1" strike="noStrike">
                <a:solidFill>
                  <a:srgbClr val="ffffff"/>
                </a:solidFill>
                <a:latin typeface="Arial Black"/>
              </a:rPr>
              <a:t> (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гранулом</a:t>
            </a:r>
            <a:r>
              <a:rPr b="0" lang="sr-Latn-CS" sz="44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0" name="Picture 4" descr="Batch Pict0008"/>
          <p:cNvPicPr/>
          <p:nvPr/>
        </p:nvPicPr>
        <p:blipFill>
          <a:blip r:embed="rId1"/>
          <a:stretch/>
        </p:blipFill>
        <p:spPr>
          <a:xfrm>
            <a:off x="2484360" y="1989000"/>
            <a:ext cx="4319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Ограничени</a:t>
            </a:r>
            <a:r>
              <a:rPr b="0" lang="sr-Latn-C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ериапикални</a:t>
            </a:r>
            <a:r>
              <a:rPr b="0" lang="sr-Latn-C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роцес</a:t>
            </a:r>
            <a:r>
              <a:rPr b="0" lang="sr-Latn-CS" sz="4400" spc="-1" strike="noStrike">
                <a:solidFill>
                  <a:srgbClr val="ffffff"/>
                </a:solidFill>
                <a:latin typeface="Arial Black"/>
              </a:rPr>
              <a:t> (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циста</a:t>
            </a:r>
            <a:r>
              <a:rPr b="0" lang="sr-Latn-CS" sz="44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2" name="Picture 5" descr="Batch Pict0002"/>
          <p:cNvPicPr/>
          <p:nvPr/>
        </p:nvPicPr>
        <p:blipFill>
          <a:blip r:embed="rId1"/>
          <a:stretch/>
        </p:blipFill>
        <p:spPr>
          <a:xfrm>
            <a:off x="3132000" y="1989000"/>
            <a:ext cx="29527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5"/>
          <p:cNvSpPr/>
          <p:nvPr/>
        </p:nvSpPr>
        <p:spPr>
          <a:xfrm>
            <a:off x="6407280" y="63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35" name="Picture 7" descr="DSC_0179"/>
          <p:cNvPicPr/>
          <p:nvPr/>
        </p:nvPicPr>
        <p:blipFill>
          <a:blip r:embed="rId2"/>
          <a:stretch/>
        </p:blipFill>
        <p:spPr>
          <a:xfrm>
            <a:off x="539640" y="189000"/>
            <a:ext cx="82551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93247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ЕТИОЛОГИЈА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КОНСЕКУТИВНИХ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ОБОЉЕЊ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МИКРОБНА</a:t>
            </a: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ТЕОРИЈ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АЛЕРГЕНСКА</a:t>
            </a: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ТЕОРИЈ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НЕУРОВЕГЕТАТИВНА</a:t>
            </a: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ТЕОРИЈ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                              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38" name="Picture 4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5"/>
          <p:cNvSpPr/>
          <p:nvPr/>
        </p:nvSpPr>
        <p:spPr>
          <a:xfrm>
            <a:off x="6407280" y="63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250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ЕТИОЛОГИЈА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КОНСЕКУТИВНИХ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ОБОЉЕЊ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МИКРОБНА</a:t>
            </a: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ТЕОРИЈ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ЖАРИШТЕ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 Black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ХРОНИЧНО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 Black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КРИПТОГЕНО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 Black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ЛАТЕНТНО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НЕДОСТАЦИ</a:t>
            </a:r>
            <a:r>
              <a:rPr b="0" lang="sr-Latn-C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ОВЕ</a:t>
            </a:r>
            <a:r>
              <a:rPr b="0" lang="sr-Latn-C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ТЕОРИЈЕ</a:t>
            </a:r>
            <a:r>
              <a:rPr b="0" lang="sr-Latn-CS" sz="12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200" spc="-1" strike="noStrike">
                <a:solidFill>
                  <a:srgbClr val="ffffff"/>
                </a:solidFill>
                <a:latin typeface="Arial Black"/>
              </a:rPr>
              <a:t>-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НЕДОВОЉАН</a:t>
            </a:r>
            <a:r>
              <a:rPr b="0" lang="sr-Latn-C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БРОЈ</a:t>
            </a:r>
            <a:r>
              <a:rPr b="0" lang="sr-Latn-C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МИКРООРГАНИЗАМА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200" spc="-1" strike="noStrike">
                <a:solidFill>
                  <a:srgbClr val="ffffff"/>
                </a:solidFill>
                <a:latin typeface="Arial Black"/>
              </a:rPr>
              <a:t>-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НЕДОВОЉНА</a:t>
            </a:r>
            <a:r>
              <a:rPr b="0" lang="sr-Latn-C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ВИРУЛЕНЦИЈА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                               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42" name="Picture 4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5"/>
          <p:cNvSpPr/>
          <p:nvPr/>
        </p:nvSpPr>
        <p:spPr>
          <a:xfrm>
            <a:off x="6407280" y="63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ЖАРИШНА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ИНФЕКЦИЈ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ЖАРИШТЕ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КОНСЕКУТИВНА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ОБОЉЕЊ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                              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3" name="Picture 4" descr="Picture1"/>
          <p:cNvPicPr/>
          <p:nvPr/>
        </p:nvPicPr>
        <p:blipFill>
          <a:blip r:embed="rId1"/>
          <a:stretch/>
        </p:blipFill>
        <p:spPr>
          <a:xfrm rot="21398400">
            <a:off x="3539520" y="5221080"/>
            <a:ext cx="4908600" cy="914220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6"/>
          <p:cNvSpPr/>
          <p:nvPr/>
        </p:nvSpPr>
        <p:spPr>
          <a:xfrm>
            <a:off x="6407280" y="6308640"/>
            <a:ext cx="31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sr-C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250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ЕТИОЛОГИЈА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КОНСЕКУТИВНИХ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ОБОЉЕЊ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АЛЕРГЕНСК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ТЕОР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АЛЕРГОГЕНА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СВОЈСТВА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ИМАЈУ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-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МИКРООРГАНИЗМИ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-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ЊИХОВИ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ПРОДУКТИ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-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ТОКСИНИ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-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ПРОДУКТИ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МЕТАБОЛИЗМИ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МИКРООРГАНИЗАМА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-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МАТЕРИЈЕ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НАСТАЛЕ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ПРИ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БАКТЕРИОЛИЗИ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-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РАСПАДНИ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ПРОДУКТИ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ЖАРИШТА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ТЈ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.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ТКИВА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ДОМАЋИНА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РАСПАДНУТИ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АЛЕРГЕНИ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С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. 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ДИСОЛВОАЛЕРГЕНИ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–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ПОЛИПЕПШТИДИ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ДИСОЛВОАЛЕРГЕНИ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+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ПРОТЕИНИ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СЕРУМА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=АЛЕРГЕНИ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ffcc00"/>
                </a:solidFill>
                <a:latin typeface="Arial Black"/>
              </a:rPr>
              <a:t>                                 </a:t>
            </a:r>
            <a:endParaRPr b="0" lang="en-US" sz="9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46" name="Picture 4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5"/>
          <p:cNvSpPr/>
          <p:nvPr/>
        </p:nvSpPr>
        <p:spPr>
          <a:xfrm>
            <a:off x="6407280" y="6308640"/>
            <a:ext cx="32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sr-C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250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ЕТИОЛОГИЈА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КОНСЕКУТИВНИХ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ОБОЉЕЊ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НЕУРОВЕГЕТАТИВНА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ТЕОРИЈ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МРЕЖА</a:t>
            </a:r>
            <a:r>
              <a:rPr b="0" lang="sr-Latn-C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ВЕГЕТАТИВНИХ</a:t>
            </a:r>
            <a:r>
              <a:rPr b="0" lang="sr-Latn-C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НЕРВНИХ</a:t>
            </a:r>
            <a:r>
              <a:rPr b="0" lang="sr-Latn-C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ВЛАКАНА</a:t>
            </a:r>
            <a:r>
              <a:rPr b="0" lang="sr-Latn-C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У</a:t>
            </a:r>
            <a:r>
              <a:rPr b="0" lang="sr-Latn-C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ГРАНУЛОМУ</a:t>
            </a:r>
            <a:r>
              <a:rPr b="0" lang="sr-Latn-C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С</a:t>
            </a:r>
            <a:r>
              <a:rPr b="0" lang="sr-Latn-CS" sz="1800" spc="-1" strike="noStrike">
                <a:solidFill>
                  <a:srgbClr val="ffffff"/>
                </a:solidFill>
                <a:latin typeface="Arial Black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ТЕРМИНАЛНИ</a:t>
            </a:r>
            <a:r>
              <a:rPr b="0" lang="sr-Latn-C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РЕТИКУЛУМ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ДУГОТРАЈНИ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БАГИ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НАДРАЖАЈИ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 (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МАХАНИЧКИ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ХЕМИЈСКИ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АЛЕРГИЈСКИ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) 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НА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ТЕРМИНАЛНИ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РЕТИКУЛУМ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АФЕРЕНТНИМ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ВЛАКНИМА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ЦЕНТАР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ВЕГЕТАТИВНЕ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РЕГУЛАЦИЈЕ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 (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СИВА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МАСА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ПОДА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ИВ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МОЖДАНЕ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КОМОРЕ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) 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ЕФЕРЕНТНИМ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ВЛАКНИМА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ДИСРЕГУЛАЦИЈА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КРВНИХ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СУДОВА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 (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НЕУРОВАСКУЛАРНА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ДИСТРОФИЈА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ПРИЈЕМЧИВОСТ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ЗА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ДРУГЕ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ПАТОЛОШКЕ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НОКСЕ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 (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ИНФЕКТИВНЕ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АЛЕРГИЈСКЕ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sr-Latn-CS" sz="1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700" spc="-1" strike="noStrike">
                <a:solidFill>
                  <a:srgbClr val="ffcc00"/>
                </a:solidFill>
                <a:latin typeface="Arial Black"/>
              </a:rPr>
              <a:t>                                 </a:t>
            </a:r>
            <a:endParaRPr b="0" lang="en-US" sz="7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0" name="Picture 4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5"/>
          <p:cNvSpPr/>
          <p:nvPr/>
        </p:nvSpPr>
        <p:spPr>
          <a:xfrm>
            <a:off x="6407280" y="63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Line 6"/>
          <p:cNvSpPr/>
          <p:nvPr/>
        </p:nvSpPr>
        <p:spPr>
          <a:xfrm>
            <a:off x="2340000" y="3429000"/>
            <a:ext cx="0" cy="4316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Line 7"/>
          <p:cNvSpPr/>
          <p:nvPr/>
        </p:nvSpPr>
        <p:spPr>
          <a:xfrm>
            <a:off x="2340000" y="4005360"/>
            <a:ext cx="0" cy="4316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Line 8"/>
          <p:cNvSpPr/>
          <p:nvPr/>
        </p:nvSpPr>
        <p:spPr>
          <a:xfrm>
            <a:off x="2340000" y="4653000"/>
            <a:ext cx="0" cy="144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УЗРОЦИ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АКТИВИРАЊА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ДЕНТОГЕНИХ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ПЕРИАПИКАЛНИХ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ЖАРИШТ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ОШТЕЋЕЊЕ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ОПНЕ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ГРАНУЛОМА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(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механички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агенси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ОКЛУЗАЛНИ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ТРАУМАТИЗАМ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ХЕМИЈСКИ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АГЕНСИ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(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лечење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к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к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.)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ПАД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ИМУНИТЕТА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СТВАРАЊЕ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ГАСОВА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У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РАДИКУЛАРНОМ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КАНАЛУ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ПОРЕМЕЋАЈ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ЦИРКУЛАЦИЈЕ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У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ПЕРИАПИКАЛНОМ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ТЈ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.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ПЕРИЖАРИШНОМ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ТКИВУ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(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ХИПЕРЕМИЈА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–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обични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као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последица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физикалних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процедура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ОПШТА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АЛЕРГИЗАЦИЈА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ОРГАНИЗМА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АЛЕРГЕНИМА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КОЈИ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НИСУ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ФОКАЛНОГ</a:t>
            </a: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ПРЕКЛА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cc00"/>
                </a:solidFill>
                <a:latin typeface="Arial Black"/>
              </a:rPr>
              <a:t>                                 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7" name="Picture 4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5"/>
          <p:cNvSpPr/>
          <p:nvPr/>
        </p:nvSpPr>
        <p:spPr>
          <a:xfrm>
            <a:off x="6407280" y="63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Arial Black"/>
              </a:rPr>
              <a:t>КОНСЕКУТИВНА</a:t>
            </a:r>
            <a:r>
              <a:rPr b="0" lang="sr-Latn-CS" sz="36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ffcc"/>
                </a:solidFill>
                <a:latin typeface="Arial Black"/>
              </a:rPr>
              <a:t>ОБОЉЕЊ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77724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КАРДИОВАСКУЛАРНЕ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БОЛЕСТИ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КОЖЕ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ОРГАНА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ЗА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ДИСАЊЕ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ОК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ЛОКОМОТОРНОГ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СИСТЕМ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УРОГЕНИТАЛНОГ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ТРАКТ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ГАСТРОИНТЕСТИНАЛНОГ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СИСТЕМ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НЕУРОЛОШКЕ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БОЛЕСТИ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                               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1" name="Picture 4" descr="Picture1"/>
          <p:cNvPicPr/>
          <p:nvPr/>
        </p:nvPicPr>
        <p:blipFill>
          <a:blip r:embed="rId1"/>
          <a:stretch/>
        </p:blipFill>
        <p:spPr>
          <a:xfrm rot="21398400">
            <a:off x="4235040" y="566064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5"/>
          <p:cNvSpPr/>
          <p:nvPr/>
        </p:nvSpPr>
        <p:spPr>
          <a:xfrm>
            <a:off x="6407280" y="63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ЕТИОЛОШКА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ДИЈАГНОЗА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КОНСЕКУТИВНИХ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ОБОЉЕЊА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ОДНОСНО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ДИЈАГНОЗА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“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ЖАРИШНЕ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ИНФЕКЦИЈЕ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436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КЛИНИЧКИ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ИМПТОМИ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АНАМНЕЗА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ХЕМАТОГЕНЕ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ПРОМЕНЕ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ТЕСТОВ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          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5" name="Picture 4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5"/>
          <p:cNvSpPr/>
          <p:nvPr/>
        </p:nvSpPr>
        <p:spPr>
          <a:xfrm>
            <a:off x="6407280" y="6308640"/>
            <a:ext cx="33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sr-C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ЖАРИШНА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 </a:t>
            </a: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ИНФЕКЦИЈА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ffcc"/>
                </a:solidFill>
                <a:latin typeface="Arial Black"/>
              </a:rPr>
              <a:t>КЛИНИЧКИ</a:t>
            </a:r>
            <a:r>
              <a:rPr b="0" i="1" lang="sr-Latn-CS" sz="32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ffcc"/>
                </a:solidFill>
                <a:latin typeface="Arial Black"/>
              </a:rPr>
              <a:t>СИМПТОМИ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4000" y="2421000"/>
            <a:ext cx="8459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ПРОМЕНЕ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У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ОБЛАСТИ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КАРДИОВАСКУЛАРНОГ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СИСТЕМА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(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аритмије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екстрасистоле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ПРОМЕНЕ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У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ОБЛАСТИ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ДИГЕСТИВНОГ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ТРАКТА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(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метеоризам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појачан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или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смањен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апетит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дијареје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опстипације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ПРОМЕНЕ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У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ОБЛАСТИ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НЕРВНОГ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СИСТЕМА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(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главобоље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нервоза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расејаност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поремећај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концентрације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импулсивност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депресивност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поремећај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сна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СУБФЕБРИЛНЕ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ТЕМПЕРАТУРЕ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cc00"/>
                </a:solidFill>
                <a:latin typeface="Arial Black"/>
              </a:rPr>
              <a:t>                                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9" name="Picture 4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5"/>
          <p:cNvSpPr/>
          <p:nvPr/>
        </p:nvSpPr>
        <p:spPr>
          <a:xfrm>
            <a:off x="6407280" y="63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ЖАРИШНА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ИНФЕКЦИЈА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ХЕМАТОГЕНЕ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ПРОМЕНЕ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МАЊЕЊЕ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БРОЈ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ВИХ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УОБЛИЧЕНИХ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ЕЛЕМЕНАТ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КРВИ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ПАД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ВРЕДНОСТ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ХЕМОГЛОБИН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УБРЗАН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ЕДИМЕНТАЦИЈ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ЕРИТРОЦИТ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ПРОМЕНЕ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У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ЛЕУКОЦИТАРНОЈ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ФОРМУЛ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(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повећање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број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штапићастих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неутрофилних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гранулоцит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лимфоцитоз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мањење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број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неутрофилних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гранулоцит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базопениј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еозинофилиј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cc00"/>
                </a:solidFill>
                <a:latin typeface="Arial Black"/>
              </a:rPr>
              <a:t>                                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73" name="Picture 4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5"/>
          <p:cNvSpPr/>
          <p:nvPr/>
        </p:nvSpPr>
        <p:spPr>
          <a:xfrm>
            <a:off x="6407280" y="63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6993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00ffcc"/>
                </a:solidFill>
                <a:latin typeface="Arial Black"/>
              </a:rPr>
              <a:t>ЖАРИШНА</a:t>
            </a:r>
            <a:r>
              <a:rPr b="0" lang="sr-Latn-CS" sz="24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ffcc"/>
                </a:solidFill>
                <a:latin typeface="Arial Black"/>
              </a:rPr>
              <a:t>ИНФЕКЦИЈА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 Black"/>
              </a:rPr>
              <a:t>ТЕСТОВИ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ДИСОЛВО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АЛЕРГИЈСК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ТЕСТ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ХИСТАМИНИСК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ТЕСТ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ИМПЛЕТОЛ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ТЕСТ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Имплетол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: 2%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Процаин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х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y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дроцхлорид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+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25%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Цоффеин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х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y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дроцхлорид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i="1" lang="en-US" sz="1800" spc="-1" strike="noStrike">
                <a:solidFill>
                  <a:srgbClr val="ffcc00"/>
                </a:solidFill>
                <a:latin typeface="Arial Black"/>
              </a:rPr>
              <a:t>ана</a:t>
            </a:r>
            <a:r>
              <a:rPr b="0" i="1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i="1" lang="en-US" sz="1800" spc="-1" strike="noStrike">
                <a:solidFill>
                  <a:srgbClr val="ffcc00"/>
                </a:solidFill>
                <a:latin typeface="Arial Black"/>
              </a:rPr>
              <a:t>партес</a:t>
            </a:r>
            <a:r>
              <a:rPr b="0" i="1" lang="sr-Latn-CS" sz="18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                              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Rectangle 5"/>
          <p:cNvSpPr/>
          <p:nvPr/>
        </p:nvSpPr>
        <p:spPr>
          <a:xfrm>
            <a:off x="6407280" y="63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Žarišna  infekcija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78" name="Picture 6" descr="Batch Pict0003"/>
          <p:cNvPicPr/>
          <p:nvPr/>
        </p:nvPicPr>
        <p:blipFill>
          <a:blip r:embed="rId1"/>
          <a:stretch/>
        </p:blipFill>
        <p:spPr>
          <a:xfrm>
            <a:off x="1042920" y="2349360"/>
            <a:ext cx="3168720" cy="25923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7" descr="Batch Pict0003"/>
          <p:cNvPicPr/>
          <p:nvPr/>
        </p:nvPicPr>
        <p:blipFill>
          <a:blip r:embed="rId2"/>
          <a:stretch/>
        </p:blipFill>
        <p:spPr>
          <a:xfrm>
            <a:off x="4716360" y="2349360"/>
            <a:ext cx="32403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ОТКРИВАЊЕ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ОРАЛНИХ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ЖАРИШТ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АНАМНЕЗ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ТОМАТОЛОШКИ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КЛИНИЧКИ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ПРЕГЛЕД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РАДИОГРАФИЈ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                            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82" name="Picture 4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5"/>
          <p:cNvSpPr/>
          <p:nvPr/>
        </p:nvSpPr>
        <p:spPr>
          <a:xfrm>
            <a:off x="6407280" y="63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ОТКРИВАЊЕ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ОРАЛНИХ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ЖАРИШТА</a:t>
            </a:r>
            <a:br>
              <a:rPr sz="4000"/>
            </a:br>
            <a:br>
              <a:rPr sz="4000"/>
            </a:br>
            <a:r>
              <a:rPr b="0" i="1" lang="en-US" sz="3200" spc="-1" strike="noStrike">
                <a:solidFill>
                  <a:srgbClr val="00ffcc"/>
                </a:solidFill>
                <a:latin typeface="Arial Black"/>
              </a:rPr>
              <a:t>АНАМНЕЗ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НЕГАТИВН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ЗИТИВН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          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86" name="Picture 4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5"/>
          <p:cNvSpPr/>
          <p:nvPr/>
        </p:nvSpPr>
        <p:spPr>
          <a:xfrm>
            <a:off x="6407280" y="63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cc"/>
                </a:solidFill>
                <a:latin typeface="Arial Black"/>
              </a:rPr>
              <a:t>  </a:t>
            </a:r>
            <a:r>
              <a:rPr b="0" lang="en-US" sz="3600" spc="-1" strike="noStrike">
                <a:solidFill>
                  <a:srgbClr val="00ffcc"/>
                </a:solidFill>
                <a:latin typeface="Arial Black"/>
              </a:rPr>
              <a:t>ФОКУС</a:t>
            </a:r>
            <a:r>
              <a:rPr b="0" lang="sr-Latn-CS" sz="3600" spc="-1" strike="noStrike">
                <a:solidFill>
                  <a:srgbClr val="00ffcc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ИЛИ</a:t>
            </a:r>
            <a:r>
              <a:rPr b="0" lang="sr-Latn-CS" sz="3600" spc="-1" strike="noStrike">
                <a:solidFill>
                  <a:srgbClr val="00ffcc"/>
                </a:solidFill>
                <a:latin typeface="Arial Black"/>
              </a:rPr>
              <a:t>  </a:t>
            </a:r>
            <a:r>
              <a:rPr b="0" lang="en-US" sz="3600" spc="-1" strike="noStrike">
                <a:solidFill>
                  <a:srgbClr val="00ffcc"/>
                </a:solidFill>
                <a:latin typeface="Arial Black"/>
              </a:rPr>
              <a:t>ЖАРИШТЕ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579640" y="6237360"/>
            <a:ext cx="331308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826920" y="14842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1887480" y="2952720"/>
            <a:ext cx="635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1311120" y="2592360"/>
            <a:ext cx="635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1042920" y="270828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Ограничени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део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ткива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заражен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микробима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кривен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латентан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и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хроничан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који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може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под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одређеним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околностима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да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изазове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обољења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удаљених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органа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или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истема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односно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00ffcc"/>
                </a:solidFill>
                <a:latin typeface="Arial Black"/>
              </a:rPr>
              <a:t>консекутивна</a:t>
            </a:r>
            <a:r>
              <a:rPr b="0" i="1" lang="sr-Latn-CS" sz="24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00ffcc"/>
                </a:solidFill>
                <a:latin typeface="Arial Black"/>
              </a:rPr>
              <a:t>обољења</a:t>
            </a:r>
            <a:r>
              <a:rPr b="0" i="1" lang="sr-Latn-CS" sz="2400" spc="-1" strike="noStrike">
                <a:solidFill>
                  <a:srgbClr val="00ffcc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ОТКРИВАЊЕ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ОРАЛНИХ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ЖАРИШТА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ffcc"/>
                </a:solidFill>
                <a:latin typeface="Arial Black"/>
              </a:rPr>
              <a:t>КЛИНИЧКИ</a:t>
            </a:r>
            <a:r>
              <a:rPr b="0" lang="sr-Latn-CS" sz="3200" spc="-1" strike="noStrike">
                <a:solidFill>
                  <a:srgbClr val="00ffcc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00ffcc"/>
                </a:solidFill>
                <a:latin typeface="Arial Black"/>
              </a:rPr>
              <a:t>ПРЕГЛЕД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ИНСПЕКЦИЈ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ЗУБ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ПАРОДОНЦИЈУМ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ОРАЛНЕ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ЛУЗОКОЖЕ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ПАЛПАЦИЈ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(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интраоралн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екстраоралн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ПЕРКУС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ИСПИТИВАЊЕ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ВИТАЛИТЕТ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ЗУБ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ОНДИРАЊЕ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ПАРОДОНТАЛНИХ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ЏЕПОВ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                               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90" name="Picture 4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5"/>
          <p:cNvSpPr/>
          <p:nvPr/>
        </p:nvSpPr>
        <p:spPr>
          <a:xfrm>
            <a:off x="6407280" y="630864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sr-C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ОТКРИВАЊЕ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ОРАЛНИХ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ЖАРИШТА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ffcc"/>
                </a:solidFill>
                <a:latin typeface="Arial Black"/>
              </a:rPr>
              <a:t>КЛИНИЧКИ</a:t>
            </a:r>
            <a:r>
              <a:rPr b="0" lang="sr-Latn-CS" sz="3200" spc="-1" strike="noStrike">
                <a:solidFill>
                  <a:srgbClr val="00ffcc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00ffcc"/>
                </a:solidFill>
                <a:latin typeface="Arial Black"/>
              </a:rPr>
              <a:t>ПРЕГЛЕД</a:t>
            </a:r>
            <a:br>
              <a:rPr sz="3200"/>
            </a:br>
            <a:r>
              <a:rPr b="0" i="1" lang="en-US" sz="2800" spc="-1" strike="noStrike">
                <a:solidFill>
                  <a:srgbClr val="00ffcc"/>
                </a:solidFill>
                <a:latin typeface="Arial Black"/>
              </a:rPr>
              <a:t>ИНСПЕКЦИЈ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МРТВИ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ЗУБИ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(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велики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испуни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зуб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под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круницом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потамнели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зуби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велике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кариозне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лезије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присуство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фистула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СТАЊЕ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ГИНГИВЕ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(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инфламација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фистуле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БЕЗУБИ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ПРЕДЕЛИ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ПРЕДЕЛИ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УМЊАК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                              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94" name="Picture 4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5"/>
          <p:cNvSpPr/>
          <p:nvPr/>
        </p:nvSpPr>
        <p:spPr>
          <a:xfrm>
            <a:off x="6407280" y="63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3"/>
          <p:cNvSpPr/>
          <p:nvPr/>
        </p:nvSpPr>
        <p:spPr>
          <a:xfrm>
            <a:off x="6407280" y="63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98" name="Picture 4" descr="Batch Pict0002"/>
          <p:cNvPicPr/>
          <p:nvPr/>
        </p:nvPicPr>
        <p:blipFill>
          <a:blip r:embed="rId2"/>
          <a:stretch/>
        </p:blipFill>
        <p:spPr>
          <a:xfrm>
            <a:off x="611280" y="620640"/>
            <a:ext cx="4728960" cy="29592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5" descr="Batch Pict0003"/>
          <p:cNvPicPr/>
          <p:nvPr/>
        </p:nvPicPr>
        <p:blipFill>
          <a:blip r:embed="rId3"/>
          <a:stretch/>
        </p:blipFill>
        <p:spPr>
          <a:xfrm>
            <a:off x="4427640" y="3284640"/>
            <a:ext cx="440676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Кариозне</a:t>
            </a:r>
            <a:r>
              <a:rPr b="0" lang="sr-Latn-C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лезије</a:t>
            </a:r>
            <a:r>
              <a:rPr b="0" lang="sr-Latn-CS" sz="40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привремени</a:t>
            </a:r>
            <a:r>
              <a:rPr b="0" lang="sr-Latn-C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испуни</a:t>
            </a:r>
            <a:r>
              <a:rPr b="0" lang="sr-Latn-CS" sz="40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акутни</a:t>
            </a:r>
            <a:r>
              <a:rPr b="0" lang="sr-Latn-C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пародонтални</a:t>
            </a:r>
            <a:r>
              <a:rPr b="0" lang="sr-Latn-C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апсцес</a:t>
            </a:r>
            <a:r>
              <a:rPr b="0" lang="sr-Latn-C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1" name="Picture 4" descr="Batch Pict0010"/>
          <p:cNvPicPr/>
          <p:nvPr/>
        </p:nvPicPr>
        <p:blipFill>
          <a:blip r:embed="rId1"/>
          <a:stretch/>
        </p:blipFill>
        <p:spPr>
          <a:xfrm>
            <a:off x="1979640" y="2349360"/>
            <a:ext cx="53290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3"/>
          <p:cNvSpPr/>
          <p:nvPr/>
        </p:nvSpPr>
        <p:spPr>
          <a:xfrm>
            <a:off x="6407280" y="63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04" name="Picture 5" descr="Batch Pict0010"/>
          <p:cNvPicPr/>
          <p:nvPr/>
        </p:nvPicPr>
        <p:blipFill>
          <a:blip r:embed="rId2"/>
          <a:stretch/>
        </p:blipFill>
        <p:spPr>
          <a:xfrm>
            <a:off x="4067280" y="2924280"/>
            <a:ext cx="4630680" cy="31971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Batch Pict0011"/>
          <p:cNvPicPr/>
          <p:nvPr/>
        </p:nvPicPr>
        <p:blipFill>
          <a:blip r:embed="rId3"/>
          <a:stretch/>
        </p:blipFill>
        <p:spPr>
          <a:xfrm>
            <a:off x="324000" y="189000"/>
            <a:ext cx="470988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6407280" y="63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08" name="Picture 5" descr="bass200521"/>
          <p:cNvPicPr/>
          <p:nvPr/>
        </p:nvPicPr>
        <p:blipFill>
          <a:blip r:embed="rId2"/>
          <a:srcRect l="0" t="0" r="33388" b="69181"/>
          <a:stretch/>
        </p:blipFill>
        <p:spPr>
          <a:xfrm>
            <a:off x="1403280" y="1844640"/>
            <a:ext cx="61200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3"/>
          <p:cNvSpPr/>
          <p:nvPr/>
        </p:nvSpPr>
        <p:spPr>
          <a:xfrm>
            <a:off x="6407280" y="63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11" name="Picture 7" descr="bass200513"/>
          <p:cNvPicPr/>
          <p:nvPr/>
        </p:nvPicPr>
        <p:blipFill>
          <a:blip r:embed="rId2"/>
          <a:stretch/>
        </p:blipFill>
        <p:spPr>
          <a:xfrm>
            <a:off x="1692360" y="1413000"/>
            <a:ext cx="61196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0256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ОТКРИВАЊЕ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ОРАЛНИХ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ЖАРИШТА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ffcc"/>
                </a:solidFill>
                <a:latin typeface="Arial Black"/>
              </a:rPr>
              <a:t>КЛИНИЧКИ</a:t>
            </a:r>
            <a:r>
              <a:rPr b="0" lang="sr-Latn-CS" sz="3200" spc="-1" strike="noStrike">
                <a:solidFill>
                  <a:srgbClr val="00ffcc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00ffcc"/>
                </a:solidFill>
                <a:latin typeface="Arial Black"/>
              </a:rPr>
              <a:t>ПРЕГЛЕД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ffcc"/>
                </a:solidFill>
                <a:latin typeface="Arial Black"/>
              </a:rPr>
              <a:t>ПАЛПАЦИЈА</a:t>
            </a:r>
            <a:br>
              <a:rPr sz="2800"/>
            </a:br>
            <a:br>
              <a:rPr sz="2800"/>
            </a:b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ОРАЛН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9640" y="37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АПИКАЛНИХ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ПРЕДЕЛА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ЗУБ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БЕЗУБИ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ПРЕДЕЛИ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 Black"/>
              </a:rPr>
              <a:t>ЕКСТРАОРАЛН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e1f08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РЕГИОНАЛНИХ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ЛИМФНИХ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ЖЛЕЗДА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(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СУБМЕНТАЛНИХ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И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СУБМАКСИЛАРНИХ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          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14" name="Picture 4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6407280" y="64911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 Black"/>
              </a:rPr>
              <a:t>ОТКРИВАЊЕ</a:t>
            </a:r>
            <a:r>
              <a:rPr b="0" lang="sr-Latn-CS" sz="20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 Black"/>
              </a:rPr>
              <a:t>ОРАЛНИХ</a:t>
            </a:r>
            <a:r>
              <a:rPr b="0" lang="sr-Latn-CS" sz="20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 Black"/>
              </a:rPr>
              <a:t>ЖАРИШТА</a:t>
            </a:r>
            <a:br>
              <a:rPr sz="2000"/>
            </a:br>
            <a:br>
              <a:rPr sz="2000"/>
            </a:br>
            <a:r>
              <a:rPr b="0" lang="en-US" sz="1400" spc="-1" strike="noStrike">
                <a:solidFill>
                  <a:srgbClr val="00ffcc"/>
                </a:solidFill>
                <a:latin typeface="Arial Black"/>
              </a:rPr>
              <a:t>КЛИНИЧКИ</a:t>
            </a:r>
            <a:r>
              <a:rPr b="0" lang="sr-Latn-CS" sz="1400" spc="-1" strike="noStrike">
                <a:solidFill>
                  <a:srgbClr val="00ffcc"/>
                </a:solidFill>
                <a:latin typeface="Arial Black"/>
              </a:rPr>
              <a:t>  </a:t>
            </a:r>
            <a:r>
              <a:rPr b="0" lang="en-US" sz="1400" spc="-1" strike="noStrike">
                <a:solidFill>
                  <a:srgbClr val="00ffcc"/>
                </a:solidFill>
                <a:latin typeface="Arial Black"/>
              </a:rPr>
              <a:t>ПРЕГЛЕД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 Black"/>
              </a:rPr>
              <a:t>Екстраорална</a:t>
            </a:r>
            <a:r>
              <a:rPr b="0" lang="sr-Latn-CS" sz="14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ffcc"/>
                </a:solidFill>
                <a:latin typeface="Arial Black"/>
              </a:rPr>
              <a:t>палпација</a:t>
            </a:r>
            <a:r>
              <a:rPr b="0" lang="sr-Latn-CS" sz="14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ffcc"/>
                </a:solidFill>
                <a:latin typeface="Arial Black"/>
              </a:rPr>
              <a:t>лимфних</a:t>
            </a:r>
            <a:r>
              <a:rPr b="0" lang="sr-Latn-CS" sz="14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ffcc"/>
                </a:solidFill>
                <a:latin typeface="Arial Black"/>
              </a:rPr>
              <a:t>жлезда</a:t>
            </a:r>
            <a:br>
              <a:rPr sz="1400"/>
            </a:br>
            <a:r>
              <a:rPr b="0" lang="sr-Latn-CS" sz="1000" spc="-1" strike="noStrike">
                <a:solidFill>
                  <a:srgbClr val="00ffcc"/>
                </a:solidFill>
                <a:latin typeface="Arial Black"/>
              </a:rPr>
              <a:t>                </a:t>
            </a:r>
            <a:br>
              <a:rPr sz="1000"/>
            </a:br>
            <a:br>
              <a:rPr sz="1000"/>
            </a:br>
            <a:r>
              <a:rPr b="0" lang="sr-Latn-CS" sz="1000" spc="-1" strike="noStrike">
                <a:solidFill>
                  <a:srgbClr val="00ffcc"/>
                </a:solidFill>
                <a:latin typeface="Arial Black"/>
              </a:rPr>
              <a:t>        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увећање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0920" y="2349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Субменталне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И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субмаксиларна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ИИ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субмаксиларна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ИИИ</a:t>
            </a:r>
            <a:r>
              <a:rPr b="0" lang="sr-Latn-C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субмаксиларна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                           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131640" y="2349360"/>
            <a:ext cx="539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42  41  31  32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15  14  13  12  11  21  22  23  24  25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45  44  43                           33  34  35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17  16                                        26  27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47  46                                        36  37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18                                                     28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48                                                     38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19" name="Picture 4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6407280" y="6491160"/>
            <a:ext cx="32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sr-C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0256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ОТКРИВАЊЕ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ОРАЛНИХ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br>
              <a:rPr sz="4000"/>
            </a:b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	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	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ЖАРИШТА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ffcc"/>
                </a:solidFill>
                <a:latin typeface="Arial Black"/>
              </a:rPr>
              <a:t>КЛИНИЧКИ</a:t>
            </a:r>
            <a:r>
              <a:rPr b="0" lang="sr-Latn-CS" sz="3600" spc="-1" strike="noStrike">
                <a:solidFill>
                  <a:srgbClr val="00ffcc"/>
                </a:solidFill>
                <a:latin typeface="Arial Black"/>
              </a:rPr>
              <a:t>  </a:t>
            </a:r>
            <a:r>
              <a:rPr b="0" lang="en-US" sz="3600" spc="-1" strike="noStrike">
                <a:solidFill>
                  <a:srgbClr val="00ffcc"/>
                </a:solidFill>
                <a:latin typeface="Arial Black"/>
              </a:rPr>
              <a:t>ПРЕГЛЕД</a:t>
            </a:r>
            <a:br>
              <a:rPr sz="3600"/>
            </a:br>
            <a:br>
              <a:rPr sz="3200"/>
            </a:br>
            <a:r>
              <a:rPr b="0" i="1" lang="en-US" sz="2800" spc="-1" strike="noStrike">
                <a:solidFill>
                  <a:srgbClr val="00ffcc"/>
                </a:solidFill>
                <a:latin typeface="Arial Black"/>
              </a:rPr>
              <a:t>ПЕРКУСИЈА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11280" y="450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ВЕРТИКАЛН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e1f08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ХОРИЗОНТАЛН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          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23" name="Picture 4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5"/>
          <p:cNvSpPr/>
          <p:nvPr/>
        </p:nvSpPr>
        <p:spPr>
          <a:xfrm>
            <a:off x="6407280" y="6491160"/>
            <a:ext cx="31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sr-C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0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 Black"/>
              </a:rPr>
              <a:t>ЖАРИШ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337440" y="5949720"/>
            <a:ext cx="28065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1743120" y="2736720"/>
            <a:ext cx="58532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sr-Latn-CS" sz="18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ОРАЛН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ЕКСТАОРАЛН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384200" y="2448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1527120" y="259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0256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ОТКРИВАЊЕ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ОРАЛНИХ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br>
              <a:rPr sz="4000"/>
            </a:b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	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	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ЖАРИШТА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ffcc"/>
                </a:solidFill>
                <a:latin typeface="Arial Black"/>
              </a:rPr>
              <a:t>КЛИНИЧКИ</a:t>
            </a:r>
            <a:r>
              <a:rPr b="0" lang="sr-Latn-CS" sz="3600" spc="-1" strike="noStrike">
                <a:solidFill>
                  <a:srgbClr val="00ffcc"/>
                </a:solidFill>
                <a:latin typeface="Arial Black"/>
              </a:rPr>
              <a:t>  </a:t>
            </a:r>
            <a:r>
              <a:rPr b="0" lang="en-US" sz="3600" spc="-1" strike="noStrike">
                <a:solidFill>
                  <a:srgbClr val="00ffcc"/>
                </a:solidFill>
                <a:latin typeface="Arial Black"/>
              </a:rPr>
              <a:t>ПРЕГЛЕД</a:t>
            </a:r>
            <a:br>
              <a:rPr sz="3600"/>
            </a:br>
            <a:br>
              <a:rPr sz="3200"/>
            </a:br>
            <a:r>
              <a:rPr b="0" i="1" lang="en-US" sz="2800" spc="-1" strike="noStrike">
                <a:solidFill>
                  <a:srgbClr val="00ffcc"/>
                </a:solidFill>
                <a:latin typeface="Arial Black"/>
              </a:rPr>
              <a:t>ИСПИТИВАЊЕ</a:t>
            </a:r>
            <a:r>
              <a:rPr b="0" i="1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00ffcc"/>
                </a:solidFill>
                <a:latin typeface="Arial Black"/>
              </a:rPr>
              <a:t>ВИТАЛИТЕТА</a:t>
            </a:r>
            <a:r>
              <a:rPr b="0" i="1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00ffcc"/>
                </a:solidFill>
                <a:latin typeface="Arial Black"/>
              </a:rPr>
              <a:t>ЗУБА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11280" y="450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АПАРАТИ</a:t>
            </a: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(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ГАЛВАНСКА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СТРУЈА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мА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; 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     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девитализовани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зуби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нису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осетљиви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на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     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галванску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струју</a:t>
            </a:r>
            <a:r>
              <a:rPr b="0" lang="sr-Latn-CS" sz="20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          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27" name="Picture 4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5"/>
          <p:cNvSpPr/>
          <p:nvPr/>
        </p:nvSpPr>
        <p:spPr>
          <a:xfrm>
            <a:off x="6407280" y="64911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0256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ОТКРИВАЊЕ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ОРАЛНИХ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br>
              <a:rPr sz="4000"/>
            </a:b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	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	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ЖАРИШТА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ffcc"/>
                </a:solidFill>
                <a:latin typeface="Arial Black"/>
              </a:rPr>
              <a:t>КЛИНИЧКИ</a:t>
            </a:r>
            <a:r>
              <a:rPr b="0" lang="sr-Latn-CS" sz="3600" spc="-1" strike="noStrike">
                <a:solidFill>
                  <a:srgbClr val="00ffcc"/>
                </a:solidFill>
                <a:latin typeface="Arial Black"/>
              </a:rPr>
              <a:t>  </a:t>
            </a:r>
            <a:r>
              <a:rPr b="0" lang="en-US" sz="3600" spc="-1" strike="noStrike">
                <a:solidFill>
                  <a:srgbClr val="00ffcc"/>
                </a:solidFill>
                <a:latin typeface="Arial Black"/>
              </a:rPr>
              <a:t>ПРЕГЛЕД</a:t>
            </a:r>
            <a:br>
              <a:rPr sz="3600"/>
            </a:br>
            <a:br>
              <a:rPr sz="3200"/>
            </a:br>
            <a:r>
              <a:rPr b="0" i="1" lang="en-US" sz="2800" spc="-1" strike="noStrike">
                <a:solidFill>
                  <a:srgbClr val="00ffcc"/>
                </a:solidFill>
                <a:latin typeface="Arial Black"/>
              </a:rPr>
              <a:t>СОНДИРАЊЕ</a:t>
            </a:r>
            <a:r>
              <a:rPr b="0" i="1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00ffcc"/>
                </a:solidFill>
                <a:latin typeface="Arial Black"/>
              </a:rPr>
              <a:t>ПАРОДОНТАЛНИХ</a:t>
            </a:r>
            <a:r>
              <a:rPr b="0" i="1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00ffcc"/>
                </a:solidFill>
                <a:latin typeface="Arial Black"/>
              </a:rPr>
              <a:t>ЏЕПОВА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11280" y="522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ПАРОДОНТАЛНА</a:t>
            </a: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СОНД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          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1" name="Picture 4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6407280" y="64911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3"/>
          <p:cNvSpPr/>
          <p:nvPr/>
        </p:nvSpPr>
        <p:spPr>
          <a:xfrm>
            <a:off x="6407280" y="63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5" name="Picture 4" descr="DSC_0188"/>
          <p:cNvPicPr/>
          <p:nvPr/>
        </p:nvPicPr>
        <p:blipFill>
          <a:blip r:embed="rId2"/>
          <a:stretch/>
        </p:blipFill>
        <p:spPr>
          <a:xfrm>
            <a:off x="0" y="0"/>
            <a:ext cx="5160960" cy="34322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6" descr="DSC_0189"/>
          <p:cNvPicPr/>
          <p:nvPr/>
        </p:nvPicPr>
        <p:blipFill>
          <a:blip r:embed="rId3"/>
          <a:stretch/>
        </p:blipFill>
        <p:spPr>
          <a:xfrm>
            <a:off x="4054320" y="2852640"/>
            <a:ext cx="50896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0256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ОТКРИВАЊЕ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ОРАЛНИХ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br>
              <a:rPr sz="4000"/>
            </a:b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	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	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ЖАРИШТА</a:t>
            </a:r>
            <a:br>
              <a:rPr sz="4000"/>
            </a:b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Рендгенографија</a:t>
            </a:r>
            <a:br>
              <a:rPr sz="32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Периапикални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процес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почетни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дифузни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ограничени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-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гранулом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циста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Заостали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коренови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зуба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трана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тела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оститични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и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некротични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процес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Недовољно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испуњен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канал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корен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Хиперцементоза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ризализ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Импактирани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и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полуимпактирани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зуб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Дефекти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кости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у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току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пародонтопатије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          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9" name="Picture 4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5"/>
          <p:cNvSpPr/>
          <p:nvPr/>
        </p:nvSpPr>
        <p:spPr>
          <a:xfrm>
            <a:off x="6407280" y="64911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Почетни</a:t>
            </a:r>
            <a:r>
              <a:rPr b="0" lang="sr-Latn-C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периапикални</a:t>
            </a:r>
            <a:r>
              <a:rPr b="0" lang="sr-Latn-C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процес</a:t>
            </a:r>
            <a:r>
              <a:rPr b="0" lang="sr-Latn-CS" sz="4000" spc="-1" strike="noStrike">
                <a:solidFill>
                  <a:srgbClr val="ffffff"/>
                </a:solidFill>
                <a:latin typeface="Arial Black"/>
              </a:rPr>
              <a:t>;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пародонатлни</a:t>
            </a:r>
            <a:r>
              <a:rPr b="0" lang="sr-Latn-C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џеп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42" name="Picture 4" descr="Batch Pict0003"/>
          <p:cNvPicPr/>
          <p:nvPr/>
        </p:nvPicPr>
        <p:blipFill>
          <a:blip r:embed="rId1"/>
          <a:stretch/>
        </p:blipFill>
        <p:spPr>
          <a:xfrm>
            <a:off x="1619280" y="1989000"/>
            <a:ext cx="61214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Дифузни</a:t>
            </a:r>
            <a:r>
              <a:rPr b="0" lang="sr-Latn-C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ериапикални</a:t>
            </a:r>
            <a:r>
              <a:rPr b="0" lang="sr-Latn-C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роцес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44" name="Picture 4" descr="Batch Pict0004"/>
          <p:cNvPicPr/>
          <p:nvPr/>
        </p:nvPicPr>
        <p:blipFill>
          <a:blip r:embed="rId1"/>
          <a:stretch/>
        </p:blipFill>
        <p:spPr>
          <a:xfrm>
            <a:off x="826920" y="1844640"/>
            <a:ext cx="3311640" cy="43196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" descr="Batch Pict0013"/>
          <p:cNvPicPr/>
          <p:nvPr/>
        </p:nvPicPr>
        <p:blipFill>
          <a:blip r:embed="rId2"/>
          <a:stretch/>
        </p:blipFill>
        <p:spPr>
          <a:xfrm>
            <a:off x="5219640" y="1989000"/>
            <a:ext cx="3024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Ограничен</a:t>
            </a:r>
            <a:r>
              <a:rPr b="0" lang="sr-Latn-C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ериапикални</a:t>
            </a:r>
            <a:r>
              <a:rPr b="0" lang="sr-Latn-C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роцес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47" name="Picture 4" descr="Batch Pict0015"/>
          <p:cNvPicPr/>
          <p:nvPr/>
        </p:nvPicPr>
        <p:blipFill>
          <a:blip r:embed="rId1"/>
          <a:stretch/>
        </p:blipFill>
        <p:spPr>
          <a:xfrm>
            <a:off x="2987640" y="1484280"/>
            <a:ext cx="2592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Заостао</a:t>
            </a:r>
            <a:r>
              <a:rPr b="0" lang="sr-Latn-C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корен</a:t>
            </a:r>
            <a:r>
              <a:rPr b="0" lang="sr-Latn-C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у</a:t>
            </a:r>
            <a:r>
              <a:rPr b="0" lang="sr-Latn-C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безубом</a:t>
            </a:r>
            <a:r>
              <a:rPr b="0" lang="sr-Latn-C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региону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49" name="Picture 4" descr="Batch Pict0006"/>
          <p:cNvPicPr/>
          <p:nvPr/>
        </p:nvPicPr>
        <p:blipFill>
          <a:blip r:embed="rId1"/>
          <a:stretch/>
        </p:blipFill>
        <p:spPr>
          <a:xfrm>
            <a:off x="1979640" y="1989000"/>
            <a:ext cx="5256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трано</a:t>
            </a:r>
            <a:r>
              <a:rPr b="0" lang="sr-Latn-C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тело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51" name="Picture 4" descr="Batch Pict0007"/>
          <p:cNvPicPr/>
          <p:nvPr/>
        </p:nvPicPr>
        <p:blipFill>
          <a:blip r:embed="rId1"/>
          <a:stretch/>
        </p:blipFill>
        <p:spPr>
          <a:xfrm>
            <a:off x="684360" y="2565360"/>
            <a:ext cx="3600360" cy="35276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Batch Pict0004"/>
          <p:cNvPicPr/>
          <p:nvPr/>
        </p:nvPicPr>
        <p:blipFill>
          <a:blip r:embed="rId2"/>
          <a:stretch/>
        </p:blipFill>
        <p:spPr>
          <a:xfrm>
            <a:off x="5148360" y="2133720"/>
            <a:ext cx="33130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Недовољно</a:t>
            </a:r>
            <a:r>
              <a:rPr b="0" lang="sr-Latn-C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испуњен</a:t>
            </a:r>
            <a:r>
              <a:rPr b="0" lang="sr-Latn-C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канал</a:t>
            </a:r>
            <a:r>
              <a:rPr b="0" lang="sr-Latn-C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корен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54" name="Picture 4" descr="Batch Pict0002"/>
          <p:cNvPicPr/>
          <p:nvPr/>
        </p:nvPicPr>
        <p:blipFill>
          <a:blip r:embed="rId1"/>
          <a:stretch/>
        </p:blipFill>
        <p:spPr>
          <a:xfrm>
            <a:off x="611280" y="765000"/>
            <a:ext cx="2665440" cy="27370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" descr="Batch Pict0006"/>
          <p:cNvPicPr/>
          <p:nvPr/>
        </p:nvPicPr>
        <p:blipFill>
          <a:blip r:embed="rId2"/>
          <a:stretch/>
        </p:blipFill>
        <p:spPr>
          <a:xfrm>
            <a:off x="5364000" y="1052640"/>
            <a:ext cx="2953080" cy="23763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6" descr="Batch Pict0008"/>
          <p:cNvPicPr/>
          <p:nvPr/>
        </p:nvPicPr>
        <p:blipFill>
          <a:blip r:embed="rId3"/>
          <a:stretch/>
        </p:blipFill>
        <p:spPr>
          <a:xfrm>
            <a:off x="755640" y="3716280"/>
            <a:ext cx="2087640" cy="29656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7" descr="Batch Pict0012"/>
          <p:cNvPicPr/>
          <p:nvPr/>
        </p:nvPicPr>
        <p:blipFill>
          <a:blip r:embed="rId4"/>
          <a:stretch/>
        </p:blipFill>
        <p:spPr>
          <a:xfrm>
            <a:off x="5364000" y="3860640"/>
            <a:ext cx="280836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0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 Black"/>
              </a:rPr>
              <a:t>ЖАРИШ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337440" y="5949720"/>
            <a:ext cx="28065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1743120" y="2736720"/>
            <a:ext cx="5853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sr-Latn-CS" sz="18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Да</a:t>
            </a:r>
            <a:r>
              <a:rPr b="0" lang="sr-Latn-CS" sz="24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би</a:t>
            </a:r>
            <a:r>
              <a:rPr b="0" lang="sr-Latn-CS" sz="24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патолошки</a:t>
            </a:r>
            <a:r>
              <a:rPr b="0" lang="sr-Latn-CS" sz="24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процес</a:t>
            </a:r>
            <a:r>
              <a:rPr b="0" lang="sr-Latn-CS" sz="24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деловао</a:t>
            </a:r>
            <a:r>
              <a:rPr b="0" lang="sr-Latn-CS" sz="24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као</a:t>
            </a:r>
            <a:r>
              <a:rPr b="0" lang="sr-Latn-CS" sz="24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жариште</a:t>
            </a:r>
            <a:r>
              <a:rPr b="0" lang="sr-Latn-CS" sz="24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морао</a:t>
            </a:r>
            <a:r>
              <a:rPr b="0" lang="sr-Latn-CS" sz="24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би</a:t>
            </a:r>
            <a:r>
              <a:rPr b="0" lang="sr-Latn-CS" sz="24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да</a:t>
            </a:r>
            <a:r>
              <a:rPr b="0" lang="sr-Latn-CS" sz="24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буде</a:t>
            </a:r>
            <a:r>
              <a:rPr b="0" lang="sr-Latn-CS" sz="2400" spc="-1" strike="noStrike">
                <a:solidFill>
                  <a:srgbClr val="fe1f08"/>
                </a:solidFill>
                <a:latin typeface="Arial Black"/>
              </a:rPr>
              <a:t>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Строго</a:t>
            </a: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ограничен</a:t>
            </a: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од</a:t>
            </a: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околне</a:t>
            </a: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средине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Слабо</a:t>
            </a: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снабдевен</a:t>
            </a: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крвљу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Инфицира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1384200" y="2448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527120" y="259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Полуимпактиран</a:t>
            </a:r>
            <a:r>
              <a:rPr b="0" lang="sr-Latn-C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зуб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59" name="Picture 4" descr="Batch Pict0011"/>
          <p:cNvPicPr/>
          <p:nvPr/>
        </p:nvPicPr>
        <p:blipFill>
          <a:blip r:embed="rId1"/>
          <a:stretch/>
        </p:blipFill>
        <p:spPr>
          <a:xfrm>
            <a:off x="4030560" y="3043080"/>
            <a:ext cx="1082880" cy="7700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5" descr="Batch Pict0012"/>
          <p:cNvPicPr/>
          <p:nvPr/>
        </p:nvPicPr>
        <p:blipFill>
          <a:blip r:embed="rId2"/>
          <a:stretch/>
        </p:blipFill>
        <p:spPr>
          <a:xfrm>
            <a:off x="2340000" y="1989000"/>
            <a:ext cx="4680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Инфракоштани</a:t>
            </a:r>
            <a:r>
              <a:rPr b="0" lang="sr-Latn-C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пародонтални</a:t>
            </a:r>
            <a:r>
              <a:rPr b="0" lang="sr-Latn-C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џеп</a:t>
            </a:r>
            <a:r>
              <a:rPr b="0" lang="sr-Latn-CS" sz="4000" spc="-1" strike="noStrike">
                <a:solidFill>
                  <a:srgbClr val="ffffff"/>
                </a:solidFill>
                <a:latin typeface="Arial Black"/>
              </a:rPr>
              <a:t>;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потенцијална</a:t>
            </a:r>
            <a:r>
              <a:rPr b="0" lang="sr-Latn-C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ендопародонтална</a:t>
            </a:r>
            <a:r>
              <a:rPr b="0" lang="sr-Latn-C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лезиј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62" name="Picture 4" descr="Batch Pict0005"/>
          <p:cNvPicPr/>
          <p:nvPr/>
        </p:nvPicPr>
        <p:blipFill>
          <a:blip r:embed="rId1"/>
          <a:stretch/>
        </p:blipFill>
        <p:spPr>
          <a:xfrm>
            <a:off x="2050920" y="2565360"/>
            <a:ext cx="532944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Дифузни</a:t>
            </a:r>
            <a:r>
              <a:rPr b="0" lang="sr-Latn-C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периапикални</a:t>
            </a:r>
            <a:r>
              <a:rPr b="0" lang="sr-Latn-C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процес</a:t>
            </a:r>
            <a:r>
              <a:rPr b="0" lang="sr-Latn-C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и</a:t>
            </a:r>
            <a:r>
              <a:rPr b="0" lang="sr-Latn-C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оштећења</a:t>
            </a:r>
            <a:r>
              <a:rPr b="0" lang="sr-Latn-C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у</a:t>
            </a:r>
            <a:r>
              <a:rPr b="0" lang="sr-Latn-C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фуркацији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64" name="Picture 4" descr="Batch Pict0009"/>
          <p:cNvPicPr/>
          <p:nvPr/>
        </p:nvPicPr>
        <p:blipFill>
          <a:blip r:embed="rId1"/>
          <a:stretch/>
        </p:blipFill>
        <p:spPr>
          <a:xfrm>
            <a:off x="2484360" y="1989000"/>
            <a:ext cx="4319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0256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УКЛАЊАЊЕ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ОРАЛНИХ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ЖАРИШТ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Метод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Екстракција</a:t>
            </a: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зубе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Ресекција</a:t>
            </a: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корена</a:t>
            </a: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зуб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Ендодонтско</a:t>
            </a: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лечење</a:t>
            </a: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зуб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Лечење</a:t>
            </a: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пародонтопатије</a:t>
            </a: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-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елиминација</a:t>
            </a: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пародонталних</a:t>
            </a:r>
            <a:r>
              <a:rPr b="0" lang="sr-Latn-C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џепов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67" name="Picture 4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5"/>
          <p:cNvSpPr/>
          <p:nvPr/>
        </p:nvSpPr>
        <p:spPr>
          <a:xfrm>
            <a:off x="6407280" y="64911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0256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УКЛАЊАЊЕ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ОРАЛНИХ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ЖАРИШТ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952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Избор</a:t>
            </a: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методе</a:t>
            </a: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зависи</a:t>
            </a: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од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врсте</a:t>
            </a: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консекутивног</a:t>
            </a: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обољењ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локалних</a:t>
            </a: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фактора</a:t>
            </a: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у</a:t>
            </a: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усној</a:t>
            </a: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дупљ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71" name="Picture 4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5"/>
          <p:cNvSpPr/>
          <p:nvPr/>
        </p:nvSpPr>
        <p:spPr>
          <a:xfrm>
            <a:off x="6407280" y="64911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0256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УКЛАЊАЊЕ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ОРАЛНИХ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ffcc"/>
                </a:solidFill>
                <a:latin typeface="Arial Black"/>
              </a:rPr>
              <a:t>ЖАРИШТ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рипрема</a:t>
            </a: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болесник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стоматолошку</a:t>
            </a: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интервенцију</a:t>
            </a: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извршити</a:t>
            </a: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у</a:t>
            </a: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фази</a:t>
            </a: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ремисије</a:t>
            </a: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консекутивног</a:t>
            </a: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обољењ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заштита</a:t>
            </a: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антибиотицима</a:t>
            </a: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(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еницилин</a:t>
            </a: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детоксикација</a:t>
            </a: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(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витамин</a:t>
            </a: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Ц</a:t>
            </a: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заштита</a:t>
            </a: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антихистаминицим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75" name="Picture 4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5"/>
          <p:cNvSpPr/>
          <p:nvPr/>
        </p:nvSpPr>
        <p:spPr>
          <a:xfrm>
            <a:off x="6407280" y="64911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0256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ПРЕВЕНТИВНЕ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МЕРЕ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У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ЦИЉУ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СПРЕЧАВАЊА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НАСТАНКА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ОРАЛНИХ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ЖАРИШТА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4360" y="32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ЦИЉЕВ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ачувати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виталност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зуб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здравље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пародонцијум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здравље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меких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оралних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ткив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          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79" name="Picture 4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5"/>
          <p:cNvSpPr/>
          <p:nvPr/>
        </p:nvSpPr>
        <p:spPr>
          <a:xfrm>
            <a:off x="6407280" y="64911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0256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ПРЕВЕНТИВНЕ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МЕРЕ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У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ЦИЉУ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СПРЕЧАВАЊА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НАСТАНКА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ОРАЛНИХ</a:t>
            </a:r>
            <a:r>
              <a:rPr b="0" lang="sr-Latn-CS" sz="28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 Black"/>
              </a:rPr>
              <a:t>ЖАРИШТА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4360" y="37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МЕРЕ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Борба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против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биофилма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-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денталног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плака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примарна</a:t>
            </a:r>
            <a:r>
              <a:rPr b="0" lang="sr-Latn-C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превенциј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Arial Black"/>
              </a:rPr>
              <a:t>           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83" name="Picture 4" descr="Picture1"/>
          <p:cNvPicPr/>
          <p:nvPr/>
        </p:nvPicPr>
        <p:blipFill>
          <a:blip r:embed="rId1"/>
          <a:stretch/>
        </p:blipFill>
        <p:spPr>
          <a:xfrm rot="21398400">
            <a:off x="4235040" y="5300280"/>
            <a:ext cx="4908600" cy="914256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5"/>
          <p:cNvSpPr/>
          <p:nvPr/>
        </p:nvSpPr>
        <p:spPr>
          <a:xfrm>
            <a:off x="6407280" y="64911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87" name="Picture 4" descr="DSC_0053"/>
          <p:cNvPicPr/>
          <p:nvPr/>
        </p:nvPicPr>
        <p:blipFill>
          <a:blip r:embed="rId1"/>
          <a:stretch/>
        </p:blipFill>
        <p:spPr>
          <a:xfrm>
            <a:off x="-11160" y="380880"/>
            <a:ext cx="91677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0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00ffcc"/>
                </a:solidFill>
                <a:latin typeface="Arial Black"/>
              </a:rPr>
              <a:t>ОРАЛНА</a:t>
            </a:r>
            <a:r>
              <a:rPr b="0" lang="sr-Latn-CS" sz="4400" spc="-1" strike="noStrike">
                <a:solidFill>
                  <a:srgbClr val="00ffcc"/>
                </a:solidFill>
                <a:latin typeface="Arial Black"/>
              </a:rPr>
              <a:t>  </a:t>
            </a:r>
            <a:r>
              <a:rPr b="0" lang="en-US" sz="4400" spc="-1" strike="noStrike">
                <a:solidFill>
                  <a:srgbClr val="00ffcc"/>
                </a:solidFill>
                <a:latin typeface="Arial Black"/>
              </a:rPr>
              <a:t>ЖАРИШТА</a:t>
            </a:r>
            <a:br>
              <a:rPr sz="4400"/>
            </a:br>
            <a:r>
              <a:rPr b="0" lang="sr-Latn-CS" sz="44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i="1" lang="en-US" sz="3600" spc="-1" strike="noStrike">
                <a:solidFill>
                  <a:srgbClr val="00ffcc"/>
                </a:solidFill>
                <a:latin typeface="Arial Black"/>
              </a:rPr>
              <a:t>ДЕНТОГЕН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337440" y="5949720"/>
            <a:ext cx="28065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250920" y="2781360"/>
            <a:ext cx="88930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sr-Latn-CS" sz="18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ПЕРИАПИКАЛН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ЖАРИШТ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(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почетн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дифузн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ограничен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buClr>
                <a:srgbClr val="fe1f08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ТРАН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ТЕЛ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(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делов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амалгам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цемент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гутаперке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делови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инструменат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милер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кер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игле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лентуле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др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.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buClr>
                <a:srgbClr val="fe1f08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ЗАОСТАЛ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КОРЕНОВ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ИЛ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ДЕЛОВ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ЗУБ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У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АЛВЕОЛАРНОЈ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КОСТИ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buClr>
                <a:srgbClr val="fe1f08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buClr>
                <a:srgbClr val="fe1f08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ИМПАКТИРАН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ЗУБ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buClr>
                <a:srgbClr val="fe1f08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ПАРОДОНТОПАТ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384200" y="2448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527120" y="259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	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	</a:t>
            </a:r>
            <a:r>
              <a:rPr b="0" lang="sr-Latn-CS" sz="4000" spc="-1" strike="noStrike">
                <a:solidFill>
                  <a:srgbClr val="00ffcc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ffcc"/>
                </a:solidFill>
                <a:latin typeface="Arial Black"/>
              </a:rPr>
              <a:t>ОРАЛНА</a:t>
            </a:r>
            <a:r>
              <a:rPr b="0" lang="sr-Latn-CS" sz="2000" spc="-1" strike="noStrike">
                <a:solidFill>
                  <a:srgbClr val="00ffcc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Arial Black"/>
              </a:rPr>
              <a:t>ЖАРИШТА</a:t>
            </a:r>
            <a:r>
              <a:rPr b="0" lang="sr-Latn-CS" sz="2000" spc="-1" strike="noStrike">
                <a:solidFill>
                  <a:srgbClr val="00ffcc"/>
                </a:solidFill>
                <a:latin typeface="Arial Black"/>
              </a:rPr>
              <a:t>       </a:t>
            </a:r>
            <a:br>
              <a:rPr sz="2000"/>
            </a:br>
            <a:r>
              <a:rPr b="0" lang="sr-Latn-CS" sz="2000" spc="-1" strike="noStrike">
                <a:solidFill>
                  <a:srgbClr val="00ffcc"/>
                </a:solidFill>
                <a:latin typeface="Arial Black"/>
              </a:rPr>
              <a:t>	</a:t>
            </a:r>
            <a:r>
              <a:rPr b="0" lang="sr-Latn-CS" sz="2000" spc="-1" strike="noStrike">
                <a:solidFill>
                  <a:srgbClr val="00ffcc"/>
                </a:solidFill>
                <a:latin typeface="Arial Black"/>
              </a:rPr>
              <a:t>	</a:t>
            </a:r>
            <a:r>
              <a:rPr b="0" lang="sr-Latn-CS" sz="2000" spc="-1" strike="noStrike">
                <a:solidFill>
                  <a:srgbClr val="00ffcc"/>
                </a:solidFill>
                <a:latin typeface="Arial Black"/>
              </a:rPr>
              <a:t>	</a:t>
            </a:r>
            <a:r>
              <a:rPr b="0" i="1" lang="en-US" sz="2000" spc="-1" strike="noStrike">
                <a:solidFill>
                  <a:srgbClr val="00ffcc"/>
                </a:solidFill>
                <a:latin typeface="Arial Black"/>
              </a:rPr>
              <a:t>ДЕНТОГЕН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337440" y="6165360"/>
            <a:ext cx="28065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250920" y="907920"/>
            <a:ext cx="88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sr-Latn-CS" sz="18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ПЕРИАПИКАЛН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ЖАРИШТ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(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почетн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дифузн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ограничен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1384200" y="2448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1527120" y="259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1" name="Picture 7" descr="Batch Pict0002"/>
          <p:cNvPicPr/>
          <p:nvPr/>
        </p:nvPicPr>
        <p:blipFill>
          <a:blip r:embed="rId1"/>
          <a:stretch/>
        </p:blipFill>
        <p:spPr>
          <a:xfrm>
            <a:off x="395280" y="1700280"/>
            <a:ext cx="1487520" cy="1871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Batch Pict0001"/>
          <p:cNvPicPr/>
          <p:nvPr/>
        </p:nvPicPr>
        <p:blipFill>
          <a:blip r:embed="rId2"/>
          <a:stretch/>
        </p:blipFill>
        <p:spPr>
          <a:xfrm>
            <a:off x="4284720" y="4076640"/>
            <a:ext cx="1800000" cy="2301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9" descr="Batch Pict0006"/>
          <p:cNvPicPr/>
          <p:nvPr/>
        </p:nvPicPr>
        <p:blipFill>
          <a:blip r:embed="rId3"/>
          <a:stretch/>
        </p:blipFill>
        <p:spPr>
          <a:xfrm>
            <a:off x="4140360" y="2276640"/>
            <a:ext cx="1798560" cy="1584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0" descr="Batch Pict0004"/>
          <p:cNvPicPr/>
          <p:nvPr/>
        </p:nvPicPr>
        <p:blipFill>
          <a:blip r:embed="rId4"/>
          <a:stretch/>
        </p:blipFill>
        <p:spPr>
          <a:xfrm>
            <a:off x="6227640" y="2060640"/>
            <a:ext cx="1656000" cy="1871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1" descr="Batch Pict0005"/>
          <p:cNvPicPr/>
          <p:nvPr/>
        </p:nvPicPr>
        <p:blipFill>
          <a:blip r:embed="rId5"/>
          <a:stretch/>
        </p:blipFill>
        <p:spPr>
          <a:xfrm>
            <a:off x="6227640" y="3933720"/>
            <a:ext cx="1657440" cy="23036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2" descr="Batch Pict0006"/>
          <p:cNvPicPr/>
          <p:nvPr/>
        </p:nvPicPr>
        <p:blipFill>
          <a:blip r:embed="rId6"/>
          <a:stretch/>
        </p:blipFill>
        <p:spPr>
          <a:xfrm>
            <a:off x="250920" y="3860640"/>
            <a:ext cx="1873080" cy="230508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13"/>
          <p:cNvSpPr/>
          <p:nvPr/>
        </p:nvSpPr>
        <p:spPr>
          <a:xfrm>
            <a:off x="6212160" y="170028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Дифузн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Text Box 14"/>
          <p:cNvSpPr/>
          <p:nvPr/>
        </p:nvSpPr>
        <p:spPr>
          <a:xfrm>
            <a:off x="2142720" y="1773360"/>
            <a:ext cx="157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Почетно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Ограничено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цист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Text Box 15"/>
          <p:cNvSpPr/>
          <p:nvPr/>
        </p:nvSpPr>
        <p:spPr>
          <a:xfrm>
            <a:off x="2411280" y="4321080"/>
            <a:ext cx="157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Ограничено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гранулом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cc"/>
                </a:solidFill>
                <a:latin typeface="Arial Black"/>
              </a:rPr>
              <a:t>	</a:t>
            </a:r>
            <a:r>
              <a:rPr b="0" lang="sr-Latn-CS" sz="2400" spc="-1" strike="noStrike">
                <a:solidFill>
                  <a:srgbClr val="00ffcc"/>
                </a:solidFill>
                <a:latin typeface="Arial Black"/>
              </a:rPr>
              <a:t>	</a:t>
            </a:r>
            <a:r>
              <a:rPr b="0" lang="sr-CS" sz="2400" spc="-1" strike="noStrike">
                <a:solidFill>
                  <a:srgbClr val="00ffcc"/>
                </a:solidFill>
                <a:latin typeface="Arial Black"/>
              </a:rPr>
              <a:t>ОРАЛНА</a:t>
            </a:r>
            <a:r>
              <a:rPr b="0" lang="sr-Latn-CS" sz="2400" spc="-1" strike="noStrike">
                <a:solidFill>
                  <a:srgbClr val="00ffcc"/>
                </a:solidFill>
                <a:latin typeface="Arial Black"/>
              </a:rPr>
              <a:t>  </a:t>
            </a:r>
            <a:r>
              <a:rPr b="0" lang="sr-CS" sz="2400" spc="-1" strike="noStrike">
                <a:solidFill>
                  <a:srgbClr val="00ffcc"/>
                </a:solidFill>
                <a:latin typeface="Arial Black"/>
              </a:rPr>
              <a:t>ЖАРИШТА</a:t>
            </a:r>
            <a:br>
              <a:rPr sz="2400"/>
            </a:br>
            <a:r>
              <a:rPr b="0" lang="sr-Latn-CS" sz="2400" spc="-1" strike="noStrike">
                <a:solidFill>
                  <a:srgbClr val="00ffcc"/>
                </a:solidFill>
                <a:latin typeface="Arial Black"/>
              </a:rPr>
              <a:t>	</a:t>
            </a:r>
            <a:r>
              <a:rPr b="0" lang="sr-Latn-CS" sz="2400" spc="-1" strike="noStrike">
                <a:solidFill>
                  <a:srgbClr val="00ffcc"/>
                </a:solidFill>
                <a:latin typeface="Arial Black"/>
              </a:rPr>
              <a:t>           </a:t>
            </a:r>
            <a:r>
              <a:rPr b="0" i="1" lang="sr-CS" sz="2400" spc="-1" strike="noStrike">
                <a:solidFill>
                  <a:srgbClr val="00ffcc"/>
                </a:solidFill>
                <a:latin typeface="Arial Black"/>
              </a:rPr>
              <a:t>ДЕНТОГЕН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37440" y="5949720"/>
            <a:ext cx="28065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sr-C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250920" y="836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ТРАН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ТЕЛ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(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делов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амалгам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цемент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гутаперке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делови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инструменат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милер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кер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игле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лентуле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др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.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1384200" y="2448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1527120" y="259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5" name="Picture 7" descr="Batch Pict0007"/>
          <p:cNvPicPr/>
          <p:nvPr/>
        </p:nvPicPr>
        <p:blipFill>
          <a:blip r:embed="rId1"/>
          <a:stretch/>
        </p:blipFill>
        <p:spPr>
          <a:xfrm>
            <a:off x="900000" y="2349360"/>
            <a:ext cx="2880000" cy="40323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8" descr="Batch Pict0011"/>
          <p:cNvPicPr/>
          <p:nvPr/>
        </p:nvPicPr>
        <p:blipFill>
          <a:blip r:embed="rId2"/>
          <a:stretch/>
        </p:blipFill>
        <p:spPr>
          <a:xfrm>
            <a:off x="5292720" y="2565360"/>
            <a:ext cx="3382920" cy="316728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9"/>
          <p:cNvSpPr/>
          <p:nvPr/>
        </p:nvSpPr>
        <p:spPr>
          <a:xfrm>
            <a:off x="5919840" y="201600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Делов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амалгам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1157040" y="1728720"/>
            <a:ext cx="26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Гутаперк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увишно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канално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пуњење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cc"/>
                </a:solidFill>
                <a:latin typeface="Arial Black"/>
              </a:rPr>
              <a:t>	</a:t>
            </a:r>
            <a:r>
              <a:rPr b="0" lang="sr-Latn-CS" sz="2400" spc="-1" strike="noStrike">
                <a:solidFill>
                  <a:srgbClr val="00ffcc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 Black"/>
              </a:rPr>
              <a:t>ОРАЛНА</a:t>
            </a:r>
            <a:r>
              <a:rPr b="0" lang="sr-Latn-CS" sz="2400" spc="-1" strike="noStrike">
                <a:solidFill>
                  <a:srgbClr val="00ffcc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ffcc"/>
                </a:solidFill>
                <a:latin typeface="Arial Black"/>
              </a:rPr>
              <a:t>ЖАРИШТА</a:t>
            </a:r>
            <a:br>
              <a:rPr sz="2400"/>
            </a:br>
            <a:r>
              <a:rPr b="0" lang="sr-Latn-CS" sz="2400" spc="-1" strike="noStrike">
                <a:solidFill>
                  <a:srgbClr val="00ffcc"/>
                </a:solidFill>
                <a:latin typeface="Arial Black"/>
              </a:rPr>
              <a:t>	</a:t>
            </a:r>
            <a:r>
              <a:rPr b="0" lang="sr-Latn-CS" sz="2400" spc="-1" strike="noStrike">
                <a:solidFill>
                  <a:srgbClr val="00ffcc"/>
                </a:solidFill>
                <a:latin typeface="Arial Black"/>
              </a:rPr>
              <a:t>           </a:t>
            </a:r>
            <a:r>
              <a:rPr b="0" i="1" lang="en-US" sz="2400" spc="-1" strike="noStrike">
                <a:solidFill>
                  <a:srgbClr val="00ffcc"/>
                </a:solidFill>
                <a:latin typeface="Arial Black"/>
              </a:rPr>
              <a:t>ДЕНТОГЕН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337440" y="5949720"/>
            <a:ext cx="28065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Жаришна</a:t>
            </a:r>
            <a:r>
              <a:rPr b="0" i="1" lang="sr-Latn-CS" sz="1800" spc="-1" strike="noStrike">
                <a:solidFill>
                  <a:srgbClr val="ffe103"/>
                </a:solidFill>
                <a:latin typeface="Arial Black"/>
              </a:rPr>
              <a:t>  </a:t>
            </a:r>
            <a:r>
              <a:rPr b="0" i="1" lang="en-US" sz="1800" spc="-1" strike="noStrike">
                <a:solidFill>
                  <a:srgbClr val="ffe103"/>
                </a:solidFill>
                <a:latin typeface="Arial Black"/>
              </a:rPr>
              <a:t>инфекциј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0" y="981000"/>
            <a:ext cx="889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ЗАОСТАЛ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КОРЕНОВ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ИЛ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ДЕЛОВИ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ЗУБА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У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АЛВЕОЛАРНОЈ</a:t>
            </a:r>
            <a:r>
              <a:rPr b="0" lang="sr-Latn-C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КОСТИ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buClr>
                <a:srgbClr val="fe1f08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1384200" y="2448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527120" y="259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Picture 7" descr="Batch Pict0005"/>
          <p:cNvPicPr/>
          <p:nvPr/>
        </p:nvPicPr>
        <p:blipFill>
          <a:blip r:embed="rId1"/>
          <a:stretch/>
        </p:blipFill>
        <p:spPr>
          <a:xfrm>
            <a:off x="250920" y="1989000"/>
            <a:ext cx="3816360" cy="2930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Batch Pict0009"/>
          <p:cNvPicPr/>
          <p:nvPr/>
        </p:nvPicPr>
        <p:blipFill>
          <a:blip r:embed="rId2"/>
          <a:stretch/>
        </p:blipFill>
        <p:spPr>
          <a:xfrm>
            <a:off x="5292720" y="2205000"/>
            <a:ext cx="2664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4:42:14Z</dcterms:created>
  <dc:creator>Bozidar Dimitrijevic</dc:creator>
  <dc:description/>
  <dc:language>en-US</dc:language>
  <cp:lastModifiedBy>Corporate Edition</cp:lastModifiedBy>
  <dcterms:modified xsi:type="dcterms:W3CDTF">2016-02-01T10:12:45Z</dcterms:modified>
  <cp:revision>17</cp:revision>
  <dc:subject/>
  <dc:title>“ ŽARIŠNA   INFEKCIJA “</dc:title>
</cp:coreProperties>
</file>